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chimes.wav" ContentType="audio/x-wav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9CB-3B4D-4E9F-BF94-64E562DB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F7C-3D0B-4C1C-9BCF-4AD37B49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8ED-2600-4528-9538-7F6397B9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8C0-2F61-426A-AF5A-6C34300E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E9D-E7D4-43F9-9FC2-0BC511FA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108-1882-4B32-9B6D-FCEDF855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7E8-41D5-474D-BB99-14CF82A9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01F-2A39-42C0-924B-EDFC98C3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B08-23D5-4A59-A375-4FF1960C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4D3-218D-485A-9E36-E25305C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A3E-7096-4443-9016-DDD83FB2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D2D-F0BE-413E-B249-0A1E716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B6D6-BCD4-4FD3-BC97-037702E86C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八章  平行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ject 5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6556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042920" y="763560"/>
            <a:ext cx="192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fffff7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fffff7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1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5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5364000" y="620640"/>
            <a:ext cx="35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05240" y="287856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18.2.3   </a:t>
            </a: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正方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834640" y="3975840"/>
            <a:ext cx="34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正方形的判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808200" y="1211400"/>
            <a:ext cx="7277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对角线的交点，能判定这个四边形是正方形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8240" y="2479680"/>
            <a:ext cx="701064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∥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31"/>
          <p:cNvSpPr/>
          <p:nvPr/>
        </p:nvSpPr>
        <p:spPr>
          <a:xfrm>
            <a:off x="395280" y="677880"/>
            <a:ext cx="1374840" cy="511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8"/>
          <p:cNvSpPr/>
          <p:nvPr/>
        </p:nvSpPr>
        <p:spPr>
          <a:xfrm>
            <a:off x="5508720" y="1844640"/>
            <a:ext cx="446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2587"/>
          <p:cNvSpPr/>
          <p:nvPr/>
        </p:nvSpPr>
        <p:spPr>
          <a:xfrm>
            <a:off x="6216480" y="29210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2588"/>
          <p:cNvSpPr/>
          <p:nvPr/>
        </p:nvSpPr>
        <p:spPr>
          <a:xfrm>
            <a:off x="8305560" y="28494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2589"/>
          <p:cNvSpPr/>
          <p:nvPr/>
        </p:nvSpPr>
        <p:spPr>
          <a:xfrm>
            <a:off x="8379000" y="441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2590"/>
          <p:cNvSpPr/>
          <p:nvPr/>
        </p:nvSpPr>
        <p:spPr>
          <a:xfrm>
            <a:off x="6216480" y="4389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2596"/>
          <p:cNvSpPr/>
          <p:nvPr/>
        </p:nvSpPr>
        <p:spPr>
          <a:xfrm>
            <a:off x="6648480" y="3065400"/>
            <a:ext cx="1655640" cy="16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653160" y="3068640"/>
            <a:ext cx="1655640" cy="1655640"/>
            <a:chOff x="6653160" y="3068640"/>
            <a:chExt cx="1655640" cy="1655640"/>
          </a:xfrm>
        </p:grpSpPr>
        <p:sp>
          <p:nvSpPr>
            <p:cNvPr id="257" name="直接连接符 22597"/>
            <p:cNvSpPr/>
            <p:nvPr/>
          </p:nvSpPr>
          <p:spPr>
            <a:xfrm>
              <a:off x="6653160" y="306864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653160" y="306864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648120" y="3070080"/>
            <a:ext cx="1656000" cy="1656000"/>
            <a:chOff x="6648120" y="3070080"/>
            <a:chExt cx="1656000" cy="1656000"/>
          </a:xfrm>
        </p:grpSpPr>
        <p:sp>
          <p:nvSpPr>
            <p:cNvPr id="260" name="直接连接符 22598"/>
            <p:cNvSpPr/>
            <p:nvPr/>
          </p:nvSpPr>
          <p:spPr>
            <a:xfrm flipV="1">
              <a:off x="6648480" y="307008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 rot="10800000">
              <a:off x="6648120" y="307008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22599"/>
          <p:cNvSpPr/>
          <p:nvPr/>
        </p:nvSpPr>
        <p:spPr>
          <a:xfrm>
            <a:off x="7269120" y="39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371520" y="919080"/>
            <a:ext cx="8254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228b8b"/>
                </a:solidFill>
                <a:latin typeface="Times New Roman"/>
                <a:ea typeface="黑体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在各边上，且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M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"/>
          <p:cNvSpPr/>
          <p:nvPr/>
        </p:nvSpPr>
        <p:spPr>
          <a:xfrm>
            <a:off x="396720" y="4313160"/>
            <a:ext cx="79441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"/>
          <p:cNvSpPr/>
          <p:nvPr/>
        </p:nvSpPr>
        <p:spPr>
          <a:xfrm>
            <a:off x="469800" y="2708280"/>
            <a:ext cx="5838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由已知可证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EN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BFE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CMF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DNM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得四边形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EFMN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是菱形，再证有一个角是直角即可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31"/>
          <p:cNvSpPr/>
          <p:nvPr/>
        </p:nvSpPr>
        <p:spPr>
          <a:xfrm>
            <a:off x="395280" y="534960"/>
            <a:ext cx="1533600" cy="511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3" descr=""/>
          <p:cNvPicPr/>
          <p:nvPr/>
        </p:nvPicPr>
        <p:blipFill>
          <a:blip r:embed="rId1"/>
          <a:stretch/>
        </p:blipFill>
        <p:spPr>
          <a:xfrm>
            <a:off x="6164280" y="2708280"/>
            <a:ext cx="246204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612720" y="624240"/>
            <a:ext cx="7193160" cy="57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N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N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E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F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N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N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M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（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（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N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0°=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M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对象 1" descr=""/>
          <p:cNvPicPr/>
          <p:nvPr/>
        </p:nvPicPr>
        <p:blipFill>
          <a:blip r:embed="rId1"/>
          <a:stretch/>
        </p:blipFill>
        <p:spPr>
          <a:xfrm>
            <a:off x="792000" y="1079640"/>
            <a:ext cx="497160" cy="164448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"/>
          <p:cNvPicPr/>
          <p:nvPr/>
        </p:nvPicPr>
        <p:blipFill>
          <a:blip r:embed="rId2"/>
          <a:stretch/>
        </p:blipFill>
        <p:spPr>
          <a:xfrm>
            <a:off x="6421320" y="1517760"/>
            <a:ext cx="246240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0"/>
          <p:cNvSpPr/>
          <p:nvPr/>
        </p:nvSpPr>
        <p:spPr>
          <a:xfrm>
            <a:off x="658800" y="1784520"/>
            <a:ext cx="5079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F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过点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垂足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F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95280" y="417600"/>
            <a:ext cx="8505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228b8b"/>
                </a:solidFill>
                <a:latin typeface="Times New Roman"/>
                <a:ea typeface="黑体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直角三角形中，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交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 rot="7737000">
            <a:off x="5796000" y="3355920"/>
            <a:ext cx="2085840" cy="266400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 flipV="1">
            <a:off x="5148360" y="4078440"/>
            <a:ext cx="1439640" cy="57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 flipH="1" flipV="1">
            <a:off x="6659280" y="4078080"/>
            <a:ext cx="1873080" cy="64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 flipH="1" flipV="1">
            <a:off x="6011640" y="3573000"/>
            <a:ext cx="647640" cy="505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 flipV="1">
            <a:off x="6588000" y="350172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827600" y="4392720"/>
            <a:ext cx="3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8309520" y="4510080"/>
            <a:ext cx="3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6258240" y="2448000"/>
            <a:ext cx="416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393600" y="3384720"/>
            <a:ext cx="436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608440" y="3024360"/>
            <a:ext cx="3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966000" y="2952720"/>
            <a:ext cx="3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6097680" y="34545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 flipH="1">
            <a:off x="6168600" y="35863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 flipH="1">
            <a:off x="6877080" y="342900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6877080" y="350208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6611760" y="4065480"/>
            <a:ext cx="0" cy="6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6428520" y="4510080"/>
            <a:ext cx="436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395280" y="446760"/>
            <a:ext cx="849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过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的交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G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正方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O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5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H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E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HO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O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可证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G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70729"/>
          <p:cNvGrpSpPr/>
          <p:nvPr/>
        </p:nvGrpSpPr>
        <p:grpSpPr>
          <a:xfrm>
            <a:off x="5653080" y="2351160"/>
            <a:ext cx="2444400" cy="2754720"/>
            <a:chOff x="5653080" y="2351160"/>
            <a:chExt cx="2444400" cy="2754720"/>
          </a:xfrm>
        </p:grpSpPr>
        <p:sp>
          <p:nvSpPr>
            <p:cNvPr id="292" name="矩形 70711"/>
            <p:cNvSpPr/>
            <p:nvPr/>
          </p:nvSpPr>
          <p:spPr>
            <a:xfrm>
              <a:off x="6011640" y="2925720"/>
              <a:ext cx="1655640" cy="165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011640" y="2925720"/>
              <a:ext cx="1657080" cy="1657440"/>
              <a:chOff x="6011640" y="2925720"/>
              <a:chExt cx="1657080" cy="1657440"/>
            </a:xfrm>
          </p:grpSpPr>
          <p:sp>
            <p:nvSpPr>
              <p:cNvPr id="294" name="直接连接符 70713"/>
              <p:cNvSpPr/>
              <p:nvPr/>
            </p:nvSpPr>
            <p:spPr>
              <a:xfrm>
                <a:off x="6011640" y="2925720"/>
                <a:ext cx="16570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>
                <a:off x="6011640" y="2925720"/>
                <a:ext cx="165708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011280" y="2925720"/>
              <a:ext cx="1657440" cy="1657440"/>
              <a:chOff x="6011280" y="2925720"/>
              <a:chExt cx="1657440" cy="1657440"/>
            </a:xfrm>
          </p:grpSpPr>
          <p:sp>
            <p:nvSpPr>
              <p:cNvPr id="297" name="直接连接符 70714"/>
              <p:cNvSpPr/>
              <p:nvPr/>
            </p:nvSpPr>
            <p:spPr>
              <a:xfrm flipV="1">
                <a:off x="6011640" y="2925720"/>
                <a:ext cx="16570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 rot="10800000">
                <a:off x="6011280" y="2925720"/>
                <a:ext cx="165708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文本框 70715"/>
            <p:cNvSpPr/>
            <p:nvPr/>
          </p:nvSpPr>
          <p:spPr>
            <a:xfrm>
              <a:off x="5653080" y="2423880"/>
              <a:ext cx="3970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70716"/>
            <p:cNvSpPr/>
            <p:nvPr/>
          </p:nvSpPr>
          <p:spPr>
            <a:xfrm>
              <a:off x="5653080" y="4365360"/>
              <a:ext cx="3970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70717"/>
            <p:cNvSpPr/>
            <p:nvPr/>
          </p:nvSpPr>
          <p:spPr>
            <a:xfrm>
              <a:off x="7670880" y="2728800"/>
              <a:ext cx="4168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70718"/>
            <p:cNvSpPr/>
            <p:nvPr/>
          </p:nvSpPr>
          <p:spPr>
            <a:xfrm>
              <a:off x="7660800" y="428760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70719"/>
            <p:cNvSpPr/>
            <p:nvPr/>
          </p:nvSpPr>
          <p:spPr>
            <a:xfrm>
              <a:off x="6590880" y="307188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70722"/>
            <p:cNvSpPr/>
            <p:nvPr/>
          </p:nvSpPr>
          <p:spPr>
            <a:xfrm rot="21129000">
              <a:off x="6118200" y="3030480"/>
              <a:ext cx="1439280" cy="1439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70723"/>
            <p:cNvSpPr/>
            <p:nvPr/>
          </p:nvSpPr>
          <p:spPr>
            <a:xfrm>
              <a:off x="5653080" y="2801880"/>
              <a:ext cx="3970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70724"/>
            <p:cNvSpPr/>
            <p:nvPr/>
          </p:nvSpPr>
          <p:spPr>
            <a:xfrm>
              <a:off x="7238520" y="235116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70725"/>
            <p:cNvSpPr/>
            <p:nvPr/>
          </p:nvSpPr>
          <p:spPr>
            <a:xfrm>
              <a:off x="7651440" y="392904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70726"/>
            <p:cNvSpPr/>
            <p:nvPr/>
          </p:nvSpPr>
          <p:spPr>
            <a:xfrm>
              <a:off x="6104880" y="4414680"/>
              <a:ext cx="3970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6011640" y="3141720"/>
              <a:ext cx="1657080" cy="1223640"/>
              <a:chOff x="6011640" y="3141720"/>
              <a:chExt cx="1657080" cy="1223640"/>
            </a:xfrm>
          </p:grpSpPr>
          <p:sp>
            <p:nvSpPr>
              <p:cNvPr id="310" name="直接连接符 70727"/>
              <p:cNvSpPr/>
              <p:nvPr/>
            </p:nvSpPr>
            <p:spPr>
              <a:xfrm>
                <a:off x="6011640" y="3141720"/>
                <a:ext cx="1657080" cy="122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6011640" y="3141720"/>
                <a:ext cx="165708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227280" y="2925720"/>
              <a:ext cx="1224000" cy="1655640"/>
              <a:chOff x="6227280" y="2925720"/>
              <a:chExt cx="1224000" cy="1655640"/>
            </a:xfrm>
          </p:grpSpPr>
          <p:sp>
            <p:nvSpPr>
              <p:cNvPr id="313" name="直接连接符 70728"/>
              <p:cNvSpPr/>
              <p:nvPr/>
            </p:nvSpPr>
            <p:spPr>
              <a:xfrm flipH="1">
                <a:off x="6227280" y="2925720"/>
                <a:ext cx="122364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6227640" y="2925720"/>
                <a:ext cx="122364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4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4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71701"/>
          <p:cNvSpPr/>
          <p:nvPr/>
        </p:nvSpPr>
        <p:spPr>
          <a:xfrm>
            <a:off x="547200" y="835200"/>
            <a:ext cx="475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E=OF=OG=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菱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H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HF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71716"/>
          <p:cNvGrpSpPr/>
          <p:nvPr/>
        </p:nvGrpSpPr>
        <p:grpSpPr>
          <a:xfrm>
            <a:off x="5510160" y="1341360"/>
            <a:ext cx="2435040" cy="2584440"/>
            <a:chOff x="5510160" y="1341360"/>
            <a:chExt cx="2435040" cy="2584440"/>
          </a:xfrm>
        </p:grpSpPr>
        <p:sp>
          <p:nvSpPr>
            <p:cNvPr id="317" name="矩形 71717"/>
            <p:cNvSpPr/>
            <p:nvPr/>
          </p:nvSpPr>
          <p:spPr>
            <a:xfrm>
              <a:off x="5868720" y="1773360"/>
              <a:ext cx="1655640" cy="165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868720" y="1773360"/>
              <a:ext cx="1657080" cy="1657440"/>
              <a:chOff x="5868720" y="1773360"/>
              <a:chExt cx="1657080" cy="1657440"/>
            </a:xfrm>
          </p:grpSpPr>
          <p:sp>
            <p:nvSpPr>
              <p:cNvPr id="319" name="直接连接符 71718"/>
              <p:cNvSpPr/>
              <p:nvPr/>
            </p:nvSpPr>
            <p:spPr>
              <a:xfrm>
                <a:off x="5868720" y="1773360"/>
                <a:ext cx="16570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5868720" y="1773360"/>
                <a:ext cx="165708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868360" y="1773360"/>
              <a:ext cx="1657440" cy="1657440"/>
              <a:chOff x="5868360" y="1773360"/>
              <a:chExt cx="1657440" cy="1657440"/>
            </a:xfrm>
          </p:grpSpPr>
          <p:sp>
            <p:nvSpPr>
              <p:cNvPr id="322" name="直接连接符 71719"/>
              <p:cNvSpPr/>
              <p:nvPr/>
            </p:nvSpPr>
            <p:spPr>
              <a:xfrm flipV="1">
                <a:off x="5868720" y="1773360"/>
                <a:ext cx="16570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 rot="10800000">
                <a:off x="5868360" y="1773360"/>
                <a:ext cx="165708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文本框 71720"/>
            <p:cNvSpPr/>
            <p:nvPr/>
          </p:nvSpPr>
          <p:spPr>
            <a:xfrm>
              <a:off x="5510160" y="14144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71721"/>
            <p:cNvSpPr/>
            <p:nvPr/>
          </p:nvSpPr>
          <p:spPr>
            <a:xfrm>
              <a:off x="5510160" y="328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71722"/>
            <p:cNvSpPr/>
            <p:nvPr/>
          </p:nvSpPr>
          <p:spPr>
            <a:xfrm>
              <a:off x="7527960" y="1576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1723"/>
            <p:cNvSpPr/>
            <p:nvPr/>
          </p:nvSpPr>
          <p:spPr>
            <a:xfrm>
              <a:off x="7446240" y="3349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71724"/>
            <p:cNvSpPr/>
            <p:nvPr/>
          </p:nvSpPr>
          <p:spPr>
            <a:xfrm>
              <a:off x="6447960" y="1990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71725"/>
            <p:cNvSpPr/>
            <p:nvPr/>
          </p:nvSpPr>
          <p:spPr>
            <a:xfrm rot="21129000">
              <a:off x="5975280" y="1878120"/>
              <a:ext cx="1439280" cy="1439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71726"/>
            <p:cNvSpPr/>
            <p:nvPr/>
          </p:nvSpPr>
          <p:spPr>
            <a:xfrm>
              <a:off x="5510160" y="17924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71727"/>
            <p:cNvSpPr/>
            <p:nvPr/>
          </p:nvSpPr>
          <p:spPr>
            <a:xfrm>
              <a:off x="702432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71728"/>
            <p:cNvSpPr/>
            <p:nvPr/>
          </p:nvSpPr>
          <p:spPr>
            <a:xfrm>
              <a:off x="7508520" y="2990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71729"/>
            <p:cNvSpPr/>
            <p:nvPr/>
          </p:nvSpPr>
          <p:spPr>
            <a:xfrm>
              <a:off x="5961960" y="3405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868720" y="1989360"/>
              <a:ext cx="1657080" cy="1223640"/>
              <a:chOff x="5868720" y="1989360"/>
              <a:chExt cx="1657080" cy="1223640"/>
            </a:xfrm>
          </p:grpSpPr>
          <p:sp>
            <p:nvSpPr>
              <p:cNvPr id="335" name="直接连接符 71730"/>
              <p:cNvSpPr/>
              <p:nvPr/>
            </p:nvSpPr>
            <p:spPr>
              <a:xfrm>
                <a:off x="5868720" y="1989360"/>
                <a:ext cx="1657080" cy="122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5868720" y="1989360"/>
                <a:ext cx="165708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084360" y="1773360"/>
              <a:ext cx="1224000" cy="1655640"/>
              <a:chOff x="6084360" y="1773360"/>
              <a:chExt cx="1224000" cy="1655640"/>
            </a:xfrm>
          </p:grpSpPr>
          <p:sp>
            <p:nvSpPr>
              <p:cNvPr id="338" name="直接连接符 71731"/>
              <p:cNvSpPr/>
              <p:nvPr/>
            </p:nvSpPr>
            <p:spPr>
              <a:xfrm flipH="1">
                <a:off x="6084360" y="1773360"/>
                <a:ext cx="122364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6084720" y="1773360"/>
                <a:ext cx="122364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文本框 3"/>
          <p:cNvSpPr/>
          <p:nvPr/>
        </p:nvSpPr>
        <p:spPr>
          <a:xfrm>
            <a:off x="458640" y="779400"/>
            <a:ext cx="84535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正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动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垂足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证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点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条件都保持不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问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F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什么特殊四边形？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"/>
          <p:cNvSpPr/>
          <p:nvPr/>
        </p:nvSpPr>
        <p:spPr>
          <a:xfrm>
            <a:off x="590400" y="3168720"/>
            <a:ext cx="66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证明：∵正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和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F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A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5" descr=""/>
          <p:cNvPicPr/>
          <p:nvPr/>
        </p:nvPicPr>
        <p:blipFill>
          <a:blip r:embed="rId1"/>
          <a:stretch/>
        </p:blipFill>
        <p:spPr>
          <a:xfrm>
            <a:off x="6078600" y="3324240"/>
            <a:ext cx="2668680" cy="19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4"/>
          <p:cNvSpPr/>
          <p:nvPr/>
        </p:nvSpPr>
        <p:spPr>
          <a:xfrm>
            <a:off x="492120" y="378000"/>
            <a:ext cx="665964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解：当点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运动到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时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：∵点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运动到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得平行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5" descr=""/>
          <p:cNvPicPr/>
          <p:nvPr/>
        </p:nvPicPr>
        <p:blipFill>
          <a:blip r:embed="rId1"/>
          <a:stretch/>
        </p:blipFill>
        <p:spPr>
          <a:xfrm>
            <a:off x="6351480" y="1987560"/>
            <a:ext cx="2667240" cy="1954080"/>
          </a:xfrm>
          <a:prstGeom prst="rect">
            <a:avLst/>
          </a:prstGeom>
          <a:ln w="0">
            <a:noFill/>
          </a:ln>
        </p:spPr>
      </p:pic>
      <p:pic>
        <p:nvPicPr>
          <p:cNvPr id="345" name="对象 3" descr=""/>
          <p:cNvPicPr/>
          <p:nvPr/>
        </p:nvPicPr>
        <p:blipFill>
          <a:blip r:embed="rId2"/>
          <a:stretch/>
        </p:blipFill>
        <p:spPr>
          <a:xfrm>
            <a:off x="3859200" y="1870200"/>
            <a:ext cx="29196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121861"/>
          <p:cNvSpPr/>
          <p:nvPr/>
        </p:nvSpPr>
        <p:spPr>
          <a:xfrm>
            <a:off x="317520" y="766800"/>
            <a:ext cx="8640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思考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前面学菱形时我们探究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顺次连接任意四边形各边中点所得的四边形是平行四边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顺次连接矩形各边中点能得到菱形，那么顺次连接正方形各边中点能得到怎样的特殊平行四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121882"/>
          <p:cNvGrpSpPr/>
          <p:nvPr/>
        </p:nvGrpSpPr>
        <p:grpSpPr>
          <a:xfrm>
            <a:off x="1440" y="3025800"/>
            <a:ext cx="3317760" cy="2147760"/>
            <a:chOff x="1440" y="3025800"/>
            <a:chExt cx="3317760" cy="2147760"/>
          </a:xfrm>
        </p:grpSpPr>
        <p:sp>
          <p:nvSpPr>
            <p:cNvPr id="348" name="TextBox 14"/>
            <p:cNvSpPr/>
            <p:nvPr/>
          </p:nvSpPr>
          <p:spPr>
            <a:xfrm>
              <a:off x="1587600" y="3025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组合 121881"/>
            <p:cNvGrpSpPr/>
            <p:nvPr/>
          </p:nvGrpSpPr>
          <p:grpSpPr>
            <a:xfrm>
              <a:off x="1440" y="3457440"/>
              <a:ext cx="3317760" cy="1716120"/>
              <a:chOff x="1440" y="3457440"/>
              <a:chExt cx="3317760" cy="1716120"/>
            </a:xfrm>
          </p:grpSpPr>
          <p:sp>
            <p:nvSpPr>
              <p:cNvPr id="350" name="任意多边形 9"/>
              <p:cNvSpPr/>
              <p:nvPr/>
            </p:nvSpPr>
            <p:spPr>
              <a:xfrm>
                <a:off x="360360" y="3457440"/>
                <a:ext cx="2552760" cy="1332000"/>
              </a:xfrm>
              <a:custGeom>
                <a:avLst/>
                <a:gdLst/>
                <a:ahLst/>
                <a:rect l="l" t="t" r="r" b="b"/>
                <a:pathLst>
                  <a:path w="2552700" h="1308100">
                    <a:moveTo>
                      <a:pt x="1358900" y="0"/>
                    </a:moveTo>
                    <a:lnTo>
                      <a:pt x="0" y="1308100"/>
                    </a:lnTo>
                    <a:lnTo>
                      <a:pt x="2222500" y="1308100"/>
                    </a:lnTo>
                    <a:lnTo>
                      <a:pt x="2552700" y="635000"/>
                    </a:lnTo>
                    <a:lnTo>
                      <a:pt x="135890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Box 18"/>
              <p:cNvSpPr/>
              <p:nvPr/>
            </p:nvSpPr>
            <p:spPr>
              <a:xfrm>
                <a:off x="1440" y="45385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19"/>
              <p:cNvSpPr/>
              <p:nvPr/>
            </p:nvSpPr>
            <p:spPr>
              <a:xfrm>
                <a:off x="2705040" y="46530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20"/>
              <p:cNvSpPr/>
              <p:nvPr/>
            </p:nvSpPr>
            <p:spPr>
              <a:xfrm>
                <a:off x="2882520" y="38178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组合 121883"/>
          <p:cNvGrpSpPr/>
          <p:nvPr/>
        </p:nvGrpSpPr>
        <p:grpSpPr>
          <a:xfrm>
            <a:off x="3454200" y="3384720"/>
            <a:ext cx="2866680" cy="1746000"/>
            <a:chOff x="3454200" y="3384720"/>
            <a:chExt cx="2866680" cy="1746000"/>
          </a:xfrm>
        </p:grpSpPr>
        <p:sp>
          <p:nvSpPr>
            <p:cNvPr id="355" name="矩形 3"/>
            <p:cNvSpPr/>
            <p:nvPr/>
          </p:nvSpPr>
          <p:spPr>
            <a:xfrm>
              <a:off x="3957840" y="3673440"/>
              <a:ext cx="1836720" cy="1116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27"/>
            <p:cNvSpPr/>
            <p:nvPr/>
          </p:nvSpPr>
          <p:spPr>
            <a:xfrm>
              <a:off x="3525840" y="338472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29"/>
            <p:cNvSpPr/>
            <p:nvPr/>
          </p:nvSpPr>
          <p:spPr>
            <a:xfrm>
              <a:off x="3454200" y="4610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30"/>
            <p:cNvSpPr/>
            <p:nvPr/>
          </p:nvSpPr>
          <p:spPr>
            <a:xfrm>
              <a:off x="5904000" y="4610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31"/>
            <p:cNvSpPr/>
            <p:nvPr/>
          </p:nvSpPr>
          <p:spPr>
            <a:xfrm>
              <a:off x="5830920" y="3384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45"/>
          <p:cNvGrpSpPr/>
          <p:nvPr/>
        </p:nvGrpSpPr>
        <p:grpSpPr>
          <a:xfrm>
            <a:off x="6661080" y="3025800"/>
            <a:ext cx="2254320" cy="2094480"/>
            <a:chOff x="6661080" y="3025800"/>
            <a:chExt cx="2254320" cy="2094480"/>
          </a:xfrm>
        </p:grpSpPr>
        <p:sp>
          <p:nvSpPr>
            <p:cNvPr id="361" name="矩形 4"/>
            <p:cNvSpPr/>
            <p:nvPr/>
          </p:nvSpPr>
          <p:spPr>
            <a:xfrm>
              <a:off x="6965280" y="3264120"/>
              <a:ext cx="1573200" cy="157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44"/>
            <p:cNvSpPr/>
            <p:nvPr/>
          </p:nvSpPr>
          <p:spPr>
            <a:xfrm>
              <a:off x="6661080" y="31208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46"/>
            <p:cNvSpPr/>
            <p:nvPr/>
          </p:nvSpPr>
          <p:spPr>
            <a:xfrm>
              <a:off x="6661080" y="45997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47"/>
            <p:cNvSpPr/>
            <p:nvPr/>
          </p:nvSpPr>
          <p:spPr>
            <a:xfrm>
              <a:off x="8479080" y="4599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48"/>
            <p:cNvSpPr/>
            <p:nvPr/>
          </p:nvSpPr>
          <p:spPr>
            <a:xfrm>
              <a:off x="8478720" y="3025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11"/>
          <p:cNvSpPr/>
          <p:nvPr/>
        </p:nvSpPr>
        <p:spPr>
          <a:xfrm>
            <a:off x="4591440" y="5289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7594560" y="5157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547640" y="3241800"/>
            <a:ext cx="1224000" cy="1871640"/>
            <a:chOff x="1547640" y="3241800"/>
            <a:chExt cx="1224000" cy="1871640"/>
          </a:xfrm>
        </p:grpSpPr>
        <p:sp>
          <p:nvSpPr>
            <p:cNvPr id="369" name="直接连接符 121887"/>
            <p:cNvSpPr/>
            <p:nvPr/>
          </p:nvSpPr>
          <p:spPr>
            <a:xfrm>
              <a:off x="1547640" y="3241800"/>
              <a:ext cx="1224000" cy="187164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1547640" y="3241800"/>
              <a:ext cx="122400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Box 11"/>
          <p:cNvSpPr/>
          <p:nvPr/>
        </p:nvSpPr>
        <p:spPr>
          <a:xfrm>
            <a:off x="1256400" y="5113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任意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941640" y="3672000"/>
            <a:ext cx="2041560" cy="1239840"/>
            <a:chOff x="3941640" y="3672000"/>
            <a:chExt cx="2041560" cy="1239840"/>
          </a:xfrm>
        </p:grpSpPr>
        <p:sp>
          <p:nvSpPr>
            <p:cNvPr id="373" name="直接连接符 121893"/>
            <p:cNvSpPr/>
            <p:nvPr/>
          </p:nvSpPr>
          <p:spPr>
            <a:xfrm>
              <a:off x="3941640" y="3672000"/>
              <a:ext cx="2041560" cy="123984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3941640" y="3672000"/>
              <a:ext cx="2041560" cy="12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894120" y="3602160"/>
            <a:ext cx="2016000" cy="1224000"/>
            <a:chOff x="3894120" y="3602160"/>
            <a:chExt cx="2016000" cy="1224000"/>
          </a:xfrm>
        </p:grpSpPr>
        <p:sp>
          <p:nvSpPr>
            <p:cNvPr id="376" name="直接连接符 121894"/>
            <p:cNvSpPr/>
            <p:nvPr/>
          </p:nvSpPr>
          <p:spPr>
            <a:xfrm flipV="1">
              <a:off x="3894120" y="3602160"/>
              <a:ext cx="2016000" cy="122400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 rot="10800000">
              <a:off x="3894120" y="3602160"/>
              <a:ext cx="201600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菱形 121895"/>
          <p:cNvSpPr/>
          <p:nvPr/>
        </p:nvSpPr>
        <p:spPr>
          <a:xfrm>
            <a:off x="3995640" y="3673440"/>
            <a:ext cx="1800360" cy="1092240"/>
          </a:xfrm>
          <a:prstGeom prst="diamond">
            <a:avLst/>
          </a:prstGeom>
          <a:solidFill>
            <a:srgbClr val="fffff7"/>
          </a:solidFill>
          <a:ln w="190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804000" y="3097080"/>
            <a:ext cx="1800360" cy="1800360"/>
            <a:chOff x="6804000" y="3097080"/>
            <a:chExt cx="1800360" cy="1800360"/>
          </a:xfrm>
        </p:grpSpPr>
        <p:sp>
          <p:nvSpPr>
            <p:cNvPr id="380" name="直接连接符 121897"/>
            <p:cNvSpPr/>
            <p:nvPr/>
          </p:nvSpPr>
          <p:spPr>
            <a:xfrm>
              <a:off x="6804000" y="3097080"/>
              <a:ext cx="1800360" cy="180036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804000" y="3097080"/>
              <a:ext cx="1800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891480" y="3198960"/>
            <a:ext cx="1728720" cy="1728720"/>
            <a:chOff x="6891480" y="3198960"/>
            <a:chExt cx="1728720" cy="1728720"/>
          </a:xfrm>
        </p:grpSpPr>
        <p:sp>
          <p:nvSpPr>
            <p:cNvPr id="383" name="直接连接符 121898"/>
            <p:cNvSpPr/>
            <p:nvPr/>
          </p:nvSpPr>
          <p:spPr>
            <a:xfrm flipH="1">
              <a:off x="6891480" y="3198960"/>
              <a:ext cx="1728720" cy="172872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6891480" y="3198960"/>
              <a:ext cx="172872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21899"/>
          <p:cNvSpPr/>
          <p:nvPr/>
        </p:nvSpPr>
        <p:spPr>
          <a:xfrm rot="19140600">
            <a:off x="7223040" y="3485880"/>
            <a:ext cx="1049400" cy="11300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5"/>
          <p:cNvSpPr/>
          <p:nvPr/>
        </p:nvSpPr>
        <p:spPr>
          <a:xfrm>
            <a:off x="1085760" y="3773520"/>
            <a:ext cx="1629000" cy="1000080"/>
          </a:xfrm>
          <a:custGeom>
            <a:avLst/>
            <a:gdLst/>
            <a:ahLst/>
            <a:rect l="l" t="t" r="r" b="b"/>
            <a:pathLst>
              <a:path w="1628775" h="1000125">
                <a:moveTo>
                  <a:pt x="0" y="314325"/>
                </a:moveTo>
                <a:lnTo>
                  <a:pt x="1190625" y="0"/>
                </a:lnTo>
                <a:lnTo>
                  <a:pt x="1628775" y="685800"/>
                </a:lnTo>
                <a:lnTo>
                  <a:pt x="457200" y="1000125"/>
                </a:lnTo>
                <a:lnTo>
                  <a:pt x="0" y="314325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21909"/>
          <p:cNvSpPr/>
          <p:nvPr/>
        </p:nvSpPr>
        <p:spPr>
          <a:xfrm>
            <a:off x="1329480" y="4003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21910"/>
          <p:cNvSpPr/>
          <p:nvPr/>
        </p:nvSpPr>
        <p:spPr>
          <a:xfrm>
            <a:off x="4592160" y="3952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121911"/>
          <p:cNvSpPr/>
          <p:nvPr/>
        </p:nvSpPr>
        <p:spPr>
          <a:xfrm>
            <a:off x="7377120" y="373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1"/>
          <p:cNvSpPr/>
          <p:nvPr/>
        </p:nvSpPr>
        <p:spPr>
          <a:xfrm>
            <a:off x="741240" y="3790800"/>
            <a:ext cx="3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2"/>
          <p:cNvSpPr/>
          <p:nvPr/>
        </p:nvSpPr>
        <p:spPr>
          <a:xfrm>
            <a:off x="1403280" y="4767120"/>
            <a:ext cx="3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3"/>
          <p:cNvSpPr/>
          <p:nvPr/>
        </p:nvSpPr>
        <p:spPr>
          <a:xfrm>
            <a:off x="2700360" y="42210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4"/>
          <p:cNvSpPr/>
          <p:nvPr/>
        </p:nvSpPr>
        <p:spPr>
          <a:xfrm>
            <a:off x="2201760" y="34020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3449520" y="40035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4803480" y="47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57974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4730760" y="3262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1"/>
          <p:cNvSpPr/>
          <p:nvPr/>
        </p:nvSpPr>
        <p:spPr>
          <a:xfrm>
            <a:off x="6603840" y="3846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2"/>
          <p:cNvSpPr/>
          <p:nvPr/>
        </p:nvSpPr>
        <p:spPr>
          <a:xfrm>
            <a:off x="7611840" y="4768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3"/>
          <p:cNvSpPr/>
          <p:nvPr/>
        </p:nvSpPr>
        <p:spPr>
          <a:xfrm>
            <a:off x="8520120" y="390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4"/>
          <p:cNvSpPr/>
          <p:nvPr/>
        </p:nvSpPr>
        <p:spPr>
          <a:xfrm>
            <a:off x="7569000" y="28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7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97304"/>
          <p:cNvSpPr/>
          <p:nvPr/>
        </p:nvSpPr>
        <p:spPr>
          <a:xfrm>
            <a:off x="755640" y="1123920"/>
            <a:ext cx="8064360" cy="3719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命题正确的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角都相等的四边形是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条边都相等的四边形是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相等的平行四边形是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互相垂直的矩形是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97305"/>
          <p:cNvSpPr/>
          <p:nvPr/>
        </p:nvSpPr>
        <p:spPr>
          <a:xfrm>
            <a:off x="4398120" y="138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5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6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1"/>
          <p:cNvSpPr/>
          <p:nvPr/>
        </p:nvSpPr>
        <p:spPr>
          <a:xfrm>
            <a:off x="196920" y="1926720"/>
            <a:ext cx="874872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探索并证明正方形的判定，并了解平行四边形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、菱形之间的联系和区别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重点、难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会运用正方形的判定条件进行有关的论证和计算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难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文本框 1"/>
          <p:cNvSpPr/>
          <p:nvPr/>
        </p:nvSpPr>
        <p:spPr>
          <a:xfrm>
            <a:off x="880920" y="770040"/>
            <a:ext cx="75042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，下列结论中不正确的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图片 2" descr=""/>
          <p:cNvPicPr/>
          <p:nvPr/>
        </p:nvPicPr>
        <p:blipFill>
          <a:blip r:embed="rId1"/>
          <a:stretch/>
        </p:blipFill>
        <p:spPr>
          <a:xfrm>
            <a:off x="2495520" y="4476600"/>
            <a:ext cx="3210120" cy="1749600"/>
          </a:xfrm>
          <a:prstGeom prst="rect">
            <a:avLst/>
          </a:prstGeom>
          <a:ln w="0">
            <a:noFill/>
          </a:ln>
        </p:spPr>
      </p:pic>
      <p:sp>
        <p:nvSpPr>
          <p:cNvPr id="407" name="文本框 3"/>
          <p:cNvSpPr/>
          <p:nvPr/>
        </p:nvSpPr>
        <p:spPr>
          <a:xfrm>
            <a:off x="426168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本框 1"/>
          <p:cNvSpPr/>
          <p:nvPr/>
        </p:nvSpPr>
        <p:spPr>
          <a:xfrm>
            <a:off x="673200" y="482760"/>
            <a:ext cx="7845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请添加一个条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可得出该四边形是正方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"/>
          <p:cNvSpPr/>
          <p:nvPr/>
        </p:nvSpPr>
        <p:spPr>
          <a:xfrm>
            <a:off x="5244120" y="95076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不唯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22587"/>
          <p:cNvSpPr/>
          <p:nvPr/>
        </p:nvSpPr>
        <p:spPr>
          <a:xfrm>
            <a:off x="3274920" y="19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22588"/>
          <p:cNvSpPr/>
          <p:nvPr/>
        </p:nvSpPr>
        <p:spPr>
          <a:xfrm>
            <a:off x="5364000" y="1844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2589"/>
          <p:cNvSpPr/>
          <p:nvPr/>
        </p:nvSpPr>
        <p:spPr>
          <a:xfrm>
            <a:off x="5437440" y="341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2590"/>
          <p:cNvSpPr/>
          <p:nvPr/>
        </p:nvSpPr>
        <p:spPr>
          <a:xfrm>
            <a:off x="3274920" y="338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2596"/>
          <p:cNvSpPr/>
          <p:nvPr/>
        </p:nvSpPr>
        <p:spPr>
          <a:xfrm>
            <a:off x="3706920" y="2060640"/>
            <a:ext cx="1655640" cy="165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711600" y="2063880"/>
            <a:ext cx="1655640" cy="1655640"/>
            <a:chOff x="3711600" y="2063880"/>
            <a:chExt cx="1655640" cy="1655640"/>
          </a:xfrm>
        </p:grpSpPr>
        <p:sp>
          <p:nvSpPr>
            <p:cNvPr id="416" name="直接连接符 22597"/>
            <p:cNvSpPr/>
            <p:nvPr/>
          </p:nvSpPr>
          <p:spPr>
            <a:xfrm>
              <a:off x="3711600" y="206388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3711600" y="206388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706560" y="2064960"/>
            <a:ext cx="1656000" cy="1655640"/>
            <a:chOff x="3706560" y="2064960"/>
            <a:chExt cx="1656000" cy="1655640"/>
          </a:xfrm>
        </p:grpSpPr>
        <p:sp>
          <p:nvSpPr>
            <p:cNvPr id="419" name="直接连接符 22598"/>
            <p:cNvSpPr/>
            <p:nvPr/>
          </p:nvSpPr>
          <p:spPr>
            <a:xfrm flipV="1">
              <a:off x="3706920" y="206496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 rot="10800000">
              <a:off x="3706560" y="206496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文本框 22599"/>
          <p:cNvSpPr/>
          <p:nvPr/>
        </p:nvSpPr>
        <p:spPr>
          <a:xfrm>
            <a:off x="432720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3"/>
          <p:cNvSpPr/>
          <p:nvPr/>
        </p:nvSpPr>
        <p:spPr>
          <a:xfrm>
            <a:off x="365040" y="3841920"/>
            <a:ext cx="860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，再从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②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④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条件中，选两个作为补充条件后，使得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，其中错误的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只填写序号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4"/>
          <p:cNvSpPr/>
          <p:nvPr/>
        </p:nvSpPr>
        <p:spPr>
          <a:xfrm>
            <a:off x="3281760" y="5367240"/>
            <a:ext cx="1540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②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或①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矩形 122883"/>
          <p:cNvSpPr/>
          <p:nvPr/>
        </p:nvSpPr>
        <p:spPr>
          <a:xfrm>
            <a:off x="250920" y="563400"/>
            <a:ext cx="8497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过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垂足分别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P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122958"/>
          <p:cNvGrpSpPr/>
          <p:nvPr/>
        </p:nvGrpSpPr>
        <p:grpSpPr>
          <a:xfrm>
            <a:off x="5941800" y="3141720"/>
            <a:ext cx="2986200" cy="2390760"/>
            <a:chOff x="5941800" y="3141720"/>
            <a:chExt cx="2986200" cy="2390760"/>
          </a:xfrm>
        </p:grpSpPr>
        <p:sp>
          <p:nvSpPr>
            <p:cNvPr id="426" name="文本框 122939"/>
            <p:cNvSpPr/>
            <p:nvPr/>
          </p:nvSpPr>
          <p:spPr>
            <a:xfrm>
              <a:off x="7742520" y="5011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组合 122957"/>
            <p:cNvGrpSpPr/>
            <p:nvPr/>
          </p:nvGrpSpPr>
          <p:grpSpPr>
            <a:xfrm>
              <a:off x="5941800" y="3141720"/>
              <a:ext cx="2986200" cy="2022120"/>
              <a:chOff x="5941800" y="3141720"/>
              <a:chExt cx="2986200" cy="2022120"/>
            </a:xfrm>
          </p:grpSpPr>
          <p:sp>
            <p:nvSpPr>
              <p:cNvPr id="428" name="等腰三角形 122928"/>
              <p:cNvSpPr/>
              <p:nvPr/>
            </p:nvSpPr>
            <p:spPr>
              <a:xfrm>
                <a:off x="6300720" y="3625920"/>
                <a:ext cx="2232000" cy="71892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等腰三角形 122929"/>
              <p:cNvSpPr/>
              <p:nvPr/>
            </p:nvSpPr>
            <p:spPr>
              <a:xfrm flipV="1">
                <a:off x="6300720" y="4346640"/>
                <a:ext cx="2232000" cy="72216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文本框 122930"/>
              <p:cNvSpPr/>
              <p:nvPr/>
            </p:nvSpPr>
            <p:spPr>
              <a:xfrm>
                <a:off x="7742160" y="31417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文本框 122931"/>
              <p:cNvSpPr/>
              <p:nvPr/>
            </p:nvSpPr>
            <p:spPr>
              <a:xfrm>
                <a:off x="5941800" y="42019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文本框 122932"/>
              <p:cNvSpPr/>
              <p:nvPr/>
            </p:nvSpPr>
            <p:spPr>
              <a:xfrm>
                <a:off x="8491320" y="41306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7750080" y="3905280"/>
                <a:ext cx="400320" cy="442800"/>
                <a:chOff x="7750080" y="3905280"/>
                <a:chExt cx="400320" cy="442800"/>
              </a:xfrm>
            </p:grpSpPr>
            <p:sp>
              <p:nvSpPr>
                <p:cNvPr id="434" name="直接连接符 122934"/>
                <p:cNvSpPr/>
                <p:nvPr/>
              </p:nvSpPr>
              <p:spPr>
                <a:xfrm flipV="1">
                  <a:off x="7750080" y="3905280"/>
                  <a:ext cx="400320" cy="44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 txBox="1"/>
                <p:nvPr/>
              </p:nvSpPr>
              <p:spPr>
                <a:xfrm rot="10800000">
                  <a:off x="7750080" y="3905280"/>
                  <a:ext cx="40032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7740720" y="4346640"/>
                <a:ext cx="431640" cy="431640"/>
                <a:chOff x="7740720" y="4346640"/>
                <a:chExt cx="431640" cy="431640"/>
              </a:xfrm>
            </p:grpSpPr>
            <p:sp>
              <p:nvSpPr>
                <p:cNvPr id="437" name="直接连接符 122935"/>
                <p:cNvSpPr/>
                <p:nvPr/>
              </p:nvSpPr>
              <p:spPr>
                <a:xfrm>
                  <a:off x="7740720" y="4346640"/>
                  <a:ext cx="431640" cy="43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 txBox="1"/>
                <p:nvPr/>
              </p:nvSpPr>
              <p:spPr>
                <a:xfrm>
                  <a:off x="7740720" y="4346640"/>
                  <a:ext cx="43164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文本框 122936"/>
              <p:cNvSpPr/>
              <p:nvPr/>
            </p:nvSpPr>
            <p:spPr>
              <a:xfrm>
                <a:off x="7483320" y="38815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文本框 122937"/>
              <p:cNvSpPr/>
              <p:nvPr/>
            </p:nvSpPr>
            <p:spPr>
              <a:xfrm>
                <a:off x="8183520" y="361620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文本框 122938"/>
              <p:cNvSpPr/>
              <p:nvPr/>
            </p:nvSpPr>
            <p:spPr>
              <a:xfrm>
                <a:off x="8131320" y="46432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8091000" y="4623840"/>
                <a:ext cx="72000" cy="73080"/>
                <a:chOff x="8091000" y="4623840"/>
                <a:chExt cx="72000" cy="73080"/>
              </a:xfrm>
            </p:grpSpPr>
            <p:sp>
              <p:nvSpPr>
                <p:cNvPr id="443" name="直接连接符 122940"/>
                <p:cNvSpPr/>
                <p:nvPr/>
              </p:nvSpPr>
              <p:spPr>
                <a:xfrm flipV="1">
                  <a:off x="8091360" y="4623840"/>
                  <a:ext cx="7164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 txBox="1"/>
                <p:nvPr/>
              </p:nvSpPr>
              <p:spPr>
                <a:xfrm rot="10800000">
                  <a:off x="8091000" y="4623840"/>
                  <a:ext cx="7164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8163000" y="4624200"/>
                <a:ext cx="73080" cy="73080"/>
                <a:chOff x="8163000" y="4624200"/>
                <a:chExt cx="73080" cy="73080"/>
              </a:xfrm>
            </p:grpSpPr>
            <p:sp>
              <p:nvSpPr>
                <p:cNvPr id="446" name="直接连接符 122944"/>
                <p:cNvSpPr/>
                <p:nvPr/>
              </p:nvSpPr>
              <p:spPr>
                <a:xfrm>
                  <a:off x="8163000" y="4624200"/>
                  <a:ext cx="730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8163000" y="4624200"/>
                  <a:ext cx="7308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8077320" y="3971880"/>
                <a:ext cx="71280" cy="71280"/>
                <a:chOff x="8077320" y="3971880"/>
                <a:chExt cx="71280" cy="71280"/>
              </a:xfrm>
            </p:grpSpPr>
            <p:sp>
              <p:nvSpPr>
                <p:cNvPr id="449" name="直接连接符 122945"/>
                <p:cNvSpPr/>
                <p:nvPr/>
              </p:nvSpPr>
              <p:spPr>
                <a:xfrm>
                  <a:off x="8077320" y="3971880"/>
                  <a:ext cx="7128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>
                  <a:off x="8077320" y="3971880"/>
                  <a:ext cx="712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8148240" y="3980880"/>
                <a:ext cx="73440" cy="71640"/>
                <a:chOff x="8148240" y="3980880"/>
                <a:chExt cx="73440" cy="71640"/>
              </a:xfrm>
            </p:grpSpPr>
            <p:sp>
              <p:nvSpPr>
                <p:cNvPr id="452" name="直接连接符 122946"/>
                <p:cNvSpPr/>
                <p:nvPr/>
              </p:nvSpPr>
              <p:spPr>
                <a:xfrm flipV="1">
                  <a:off x="8148600" y="3980880"/>
                  <a:ext cx="73080" cy="7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 txBox="1"/>
                <p:nvPr/>
              </p:nvSpPr>
              <p:spPr>
                <a:xfrm rot="10800000">
                  <a:off x="8148240" y="3980880"/>
                  <a:ext cx="7308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4" name="矩形 122963"/>
          <p:cNvSpPr/>
          <p:nvPr/>
        </p:nvSpPr>
        <p:spPr>
          <a:xfrm>
            <a:off x="468360" y="3213000"/>
            <a:ext cx="6246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 = 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∴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=∠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∴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BD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S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B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22964"/>
          <p:cNvSpPr/>
          <p:nvPr/>
        </p:nvSpPr>
        <p:spPr>
          <a:xfrm>
            <a:off x="6588000" y="4221000"/>
            <a:ext cx="71640" cy="119160"/>
          </a:xfrm>
          <a:custGeom>
            <a:avLst/>
            <a:gdLst/>
            <a:ahLst/>
            <a:rect l="l" t="t" r="r" b="b"/>
            <a:pathLst>
              <a:path fill="none" w="21600" h="36196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7227"/>
                  <a:pt x="19448" y="32352"/>
                  <a:pt x="15923" y="36196"/>
                </a:cubicBezTo>
              </a:path>
              <a:path stroke="0" w="21600" h="36196">
                <a:moveTo>
                  <a:pt x="15922" y="36195"/>
                </a:moveTo>
                <a:cubicBezTo>
                  <a:pt x="17678" y="33725"/>
                  <a:pt x="19818" y="32275"/>
                  <a:pt x="22127" y="32275"/>
                </a:cubicBezTo>
                <a:cubicBezTo>
                  <a:pt x="28092" y="32275"/>
                  <a:pt x="32927" y="41946"/>
                  <a:pt x="32927" y="53875"/>
                </a:cubicBezTo>
                <a:cubicBezTo>
                  <a:pt x="32927" y="56266"/>
                  <a:pt x="32733" y="58565"/>
                  <a:pt x="32375" y="60711"/>
                </a:cubicBez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122965"/>
          <p:cNvSpPr/>
          <p:nvPr/>
        </p:nvSpPr>
        <p:spPr>
          <a:xfrm>
            <a:off x="6593040" y="4346640"/>
            <a:ext cx="90360" cy="128520"/>
          </a:xfrm>
          <a:custGeom>
            <a:avLst/>
            <a:gdLst/>
            <a:ahLst/>
            <a:rect l="l" t="t" r="r" b="b"/>
            <a:pathLst>
              <a:path fill="none" w="27624" h="38694">
                <a:moveTo>
                  <a:pt x="19228" y="0"/>
                </a:moveTo>
                <a:cubicBezTo>
                  <a:pt x="24336" y="3950"/>
                  <a:pt x="27624" y="10138"/>
                  <a:pt x="27624" y="17094"/>
                </a:cubicBezTo>
                <a:cubicBezTo>
                  <a:pt x="27624" y="29023"/>
                  <a:pt x="17953" y="38694"/>
                  <a:pt x="6024" y="38694"/>
                </a:cubicBezTo>
                <a:cubicBezTo>
                  <a:pt x="3930" y="38694"/>
                  <a:pt x="1905" y="38396"/>
                  <a:pt x="-5" y="37841"/>
                </a:cubicBezTo>
              </a:path>
              <a:path stroke="0" w="27624" h="38694">
                <a:moveTo>
                  <a:pt x="0" y="37836"/>
                </a:moveTo>
                <a:cubicBezTo>
                  <a:pt x="40" y="38896"/>
                  <a:pt x="60" y="39988"/>
                  <a:pt x="60" y="41102"/>
                </a:cubicBezTo>
                <a:cubicBezTo>
                  <a:pt x="60" y="41968"/>
                  <a:pt x="48" y="42820"/>
                  <a:pt x="24" y="43650"/>
                </a:cubicBezTo>
                <a:lnTo>
                  <a:pt x="19228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22966"/>
          <p:cNvSpPr/>
          <p:nvPr/>
        </p:nvSpPr>
        <p:spPr>
          <a:xfrm>
            <a:off x="673344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4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122967"/>
          <p:cNvSpPr/>
          <p:nvPr/>
        </p:nvSpPr>
        <p:spPr>
          <a:xfrm>
            <a:off x="6733440" y="4216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4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131075"/>
          <p:cNvGrpSpPr/>
          <p:nvPr/>
        </p:nvGrpSpPr>
        <p:grpSpPr>
          <a:xfrm>
            <a:off x="5149440" y="1698480"/>
            <a:ext cx="2986200" cy="2390760"/>
            <a:chOff x="5149440" y="1698480"/>
            <a:chExt cx="2986200" cy="2390760"/>
          </a:xfrm>
        </p:grpSpPr>
        <p:sp>
          <p:nvSpPr>
            <p:cNvPr id="460" name="文本框 131076"/>
            <p:cNvSpPr/>
            <p:nvPr/>
          </p:nvSpPr>
          <p:spPr>
            <a:xfrm>
              <a:off x="6950160" y="3568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组合 131077"/>
            <p:cNvGrpSpPr/>
            <p:nvPr/>
          </p:nvGrpSpPr>
          <p:grpSpPr>
            <a:xfrm>
              <a:off x="5149440" y="1698480"/>
              <a:ext cx="2986200" cy="2022120"/>
              <a:chOff x="5149440" y="1698480"/>
              <a:chExt cx="2986200" cy="2022120"/>
            </a:xfrm>
          </p:grpSpPr>
          <p:sp>
            <p:nvSpPr>
              <p:cNvPr id="462" name="等腰三角形 131078"/>
              <p:cNvSpPr/>
              <p:nvPr/>
            </p:nvSpPr>
            <p:spPr>
              <a:xfrm>
                <a:off x="5508360" y="2182680"/>
                <a:ext cx="2231640" cy="71892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等腰三角形 131079"/>
              <p:cNvSpPr/>
              <p:nvPr/>
            </p:nvSpPr>
            <p:spPr>
              <a:xfrm flipV="1">
                <a:off x="5508360" y="2903400"/>
                <a:ext cx="2231640" cy="72216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文本框 131080"/>
              <p:cNvSpPr/>
              <p:nvPr/>
            </p:nvSpPr>
            <p:spPr>
              <a:xfrm>
                <a:off x="6949440" y="16984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文本框 131081"/>
              <p:cNvSpPr/>
              <p:nvPr/>
            </p:nvSpPr>
            <p:spPr>
              <a:xfrm>
                <a:off x="5149440" y="27586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文本框 131082"/>
              <p:cNvSpPr/>
              <p:nvPr/>
            </p:nvSpPr>
            <p:spPr>
              <a:xfrm>
                <a:off x="7698960" y="26874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957360" y="2462040"/>
                <a:ext cx="400320" cy="442800"/>
                <a:chOff x="6957360" y="2462040"/>
                <a:chExt cx="400320" cy="442800"/>
              </a:xfrm>
            </p:grpSpPr>
            <p:sp>
              <p:nvSpPr>
                <p:cNvPr id="468" name="直接连接符 131083"/>
                <p:cNvSpPr/>
                <p:nvPr/>
              </p:nvSpPr>
              <p:spPr>
                <a:xfrm flipV="1">
                  <a:off x="6957720" y="2462040"/>
                  <a:ext cx="399960" cy="44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 txBox="1"/>
                <p:nvPr/>
              </p:nvSpPr>
              <p:spPr>
                <a:xfrm rot="10800000">
                  <a:off x="6957360" y="2462040"/>
                  <a:ext cx="39996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948360" y="2903400"/>
                <a:ext cx="431280" cy="431640"/>
                <a:chOff x="6948360" y="2903400"/>
                <a:chExt cx="431280" cy="431640"/>
              </a:xfrm>
            </p:grpSpPr>
            <p:sp>
              <p:nvSpPr>
                <p:cNvPr id="471" name="直接连接符 131084"/>
                <p:cNvSpPr/>
                <p:nvPr/>
              </p:nvSpPr>
              <p:spPr>
                <a:xfrm>
                  <a:off x="6948360" y="2903400"/>
                  <a:ext cx="431280" cy="43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 txBox="1"/>
                <p:nvPr/>
              </p:nvSpPr>
              <p:spPr>
                <a:xfrm>
                  <a:off x="6948360" y="2903400"/>
                  <a:ext cx="4312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文本框 131085"/>
              <p:cNvSpPr/>
              <p:nvPr/>
            </p:nvSpPr>
            <p:spPr>
              <a:xfrm>
                <a:off x="6690600" y="24382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文本框 131086"/>
              <p:cNvSpPr/>
              <p:nvPr/>
            </p:nvSpPr>
            <p:spPr>
              <a:xfrm>
                <a:off x="7390800" y="217296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文本框 131087"/>
              <p:cNvSpPr/>
              <p:nvPr/>
            </p:nvSpPr>
            <p:spPr>
              <a:xfrm>
                <a:off x="7338960" y="32000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7299000" y="3180600"/>
                <a:ext cx="71280" cy="73080"/>
                <a:chOff x="7299000" y="3180600"/>
                <a:chExt cx="71280" cy="73080"/>
              </a:xfrm>
            </p:grpSpPr>
            <p:sp>
              <p:nvSpPr>
                <p:cNvPr id="477" name="直接连接符 131088"/>
                <p:cNvSpPr/>
                <p:nvPr/>
              </p:nvSpPr>
              <p:spPr>
                <a:xfrm flipV="1">
                  <a:off x="7299000" y="3180600"/>
                  <a:ext cx="712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 txBox="1"/>
                <p:nvPr/>
              </p:nvSpPr>
              <p:spPr>
                <a:xfrm rot="10800000">
                  <a:off x="7299000" y="3180600"/>
                  <a:ext cx="7128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370640" y="3180960"/>
                <a:ext cx="72720" cy="73080"/>
                <a:chOff x="7370640" y="3180960"/>
                <a:chExt cx="72720" cy="73080"/>
              </a:xfrm>
            </p:grpSpPr>
            <p:sp>
              <p:nvSpPr>
                <p:cNvPr id="480" name="直接连接符 131089"/>
                <p:cNvSpPr/>
                <p:nvPr/>
              </p:nvSpPr>
              <p:spPr>
                <a:xfrm>
                  <a:off x="7370640" y="3180960"/>
                  <a:ext cx="7272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 txBox="1"/>
                <p:nvPr/>
              </p:nvSpPr>
              <p:spPr>
                <a:xfrm>
                  <a:off x="7370640" y="3180960"/>
                  <a:ext cx="7272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284960" y="2528640"/>
                <a:ext cx="70920" cy="71280"/>
                <a:chOff x="7284960" y="2528640"/>
                <a:chExt cx="70920" cy="71280"/>
              </a:xfrm>
            </p:grpSpPr>
            <p:sp>
              <p:nvSpPr>
                <p:cNvPr id="483" name="直接连接符 131090"/>
                <p:cNvSpPr/>
                <p:nvPr/>
              </p:nvSpPr>
              <p:spPr>
                <a:xfrm>
                  <a:off x="7284960" y="2528640"/>
                  <a:ext cx="7092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 txBox="1"/>
                <p:nvPr/>
              </p:nvSpPr>
              <p:spPr>
                <a:xfrm>
                  <a:off x="7284960" y="2528640"/>
                  <a:ext cx="7092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356240" y="2537640"/>
                <a:ext cx="72720" cy="71640"/>
                <a:chOff x="7356240" y="2537640"/>
                <a:chExt cx="72720" cy="71640"/>
              </a:xfrm>
            </p:grpSpPr>
            <p:sp>
              <p:nvSpPr>
                <p:cNvPr id="486" name="直接连接符 131091"/>
                <p:cNvSpPr/>
                <p:nvPr/>
              </p:nvSpPr>
              <p:spPr>
                <a:xfrm flipV="1">
                  <a:off x="7356240" y="2537640"/>
                  <a:ext cx="72720" cy="7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 txBox="1"/>
                <p:nvPr/>
              </p:nvSpPr>
              <p:spPr>
                <a:xfrm rot="10800000">
                  <a:off x="7356240" y="2537640"/>
                  <a:ext cx="7272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矩形 131096"/>
          <p:cNvSpPr/>
          <p:nvPr/>
        </p:nvSpPr>
        <p:spPr>
          <a:xfrm>
            <a:off x="0" y="692280"/>
            <a:ext cx="914400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M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N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PM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P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P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M,D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PM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3"/>
          <p:cNvSpPr/>
          <p:nvPr/>
        </p:nvSpPr>
        <p:spPr>
          <a:xfrm>
            <a:off x="708120" y="496800"/>
            <a:ext cx="8032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任意一点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试说明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状，并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连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菱形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596880" y="3043080"/>
            <a:ext cx="6675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∵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菱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菱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5" descr=""/>
          <p:cNvPicPr/>
          <p:nvPr/>
        </p:nvPicPr>
        <p:blipFill>
          <a:blip r:embed="rId1"/>
          <a:srcRect l="0" t="3919" r="0" b="0"/>
          <a:stretch/>
        </p:blipFill>
        <p:spPr>
          <a:xfrm>
            <a:off x="5616720" y="3171960"/>
            <a:ext cx="219852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3"/>
          <p:cNvSpPr/>
          <p:nvPr/>
        </p:nvSpPr>
        <p:spPr>
          <a:xfrm>
            <a:off x="708120" y="496800"/>
            <a:ext cx="8032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条件下，当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正方形，不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"/>
          <p:cNvSpPr/>
          <p:nvPr/>
        </p:nvSpPr>
        <p:spPr>
          <a:xfrm>
            <a:off x="957240" y="3911760"/>
            <a:ext cx="7229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由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斜边的直角三角形即可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1" descr=""/>
          <p:cNvPicPr/>
          <p:nvPr/>
        </p:nvPicPr>
        <p:blipFill>
          <a:blip r:embed="rId1"/>
          <a:srcRect l="0" t="3919" r="0" b="0"/>
          <a:stretch/>
        </p:blipFill>
        <p:spPr>
          <a:xfrm>
            <a:off x="3200400" y="1771560"/>
            <a:ext cx="2200320" cy="20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6145"/>
          <p:cNvSpPr/>
          <p:nvPr/>
        </p:nvSpPr>
        <p:spPr>
          <a:xfrm>
            <a:off x="38160" y="3540240"/>
            <a:ext cx="1287360" cy="75888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192" y="288"/>
                </a:moveTo>
                <a:lnTo>
                  <a:pt x="912" y="0"/>
                </a:lnTo>
                <a:lnTo>
                  <a:pt x="1296" y="624"/>
                </a:lnTo>
                <a:lnTo>
                  <a:pt x="0" y="624"/>
                </a:lnTo>
                <a:lnTo>
                  <a:pt x="192" y="288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平行四边形 6146"/>
          <p:cNvSpPr/>
          <p:nvPr/>
        </p:nvSpPr>
        <p:spPr>
          <a:xfrm>
            <a:off x="2225520" y="3824280"/>
            <a:ext cx="1386000" cy="474840"/>
          </a:xfrm>
          <a:prstGeom prst="parallelogram">
            <a:avLst>
              <a:gd name="adj" fmla="val 7297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6147"/>
          <p:cNvSpPr/>
          <p:nvPr/>
        </p:nvSpPr>
        <p:spPr>
          <a:xfrm>
            <a:off x="4681440" y="1646280"/>
            <a:ext cx="1189080" cy="56988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流程图: 决策 6148"/>
          <p:cNvSpPr/>
          <p:nvPr/>
        </p:nvSpPr>
        <p:spPr>
          <a:xfrm>
            <a:off x="4465800" y="5607000"/>
            <a:ext cx="1684080" cy="663480"/>
          </a:xfrm>
          <a:prstGeom prst="flowChartDecision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流程图: 过程 6149"/>
          <p:cNvSpPr/>
          <p:nvPr/>
        </p:nvSpPr>
        <p:spPr>
          <a:xfrm>
            <a:off x="7588080" y="3086280"/>
            <a:ext cx="1486080" cy="1517400"/>
          </a:xfrm>
          <a:prstGeom prst="flowChartProcess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右箭头 6150"/>
          <p:cNvSpPr/>
          <p:nvPr/>
        </p:nvSpPr>
        <p:spPr>
          <a:xfrm>
            <a:off x="1225440" y="3949560"/>
            <a:ext cx="1152720" cy="144720"/>
          </a:xfrm>
          <a:prstGeom prst="rightArrow">
            <a:avLst>
              <a:gd name="adj1" fmla="val 50000"/>
              <a:gd name="adj2" fmla="val 19876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右箭头 6151"/>
          <p:cNvSpPr/>
          <p:nvPr/>
        </p:nvSpPr>
        <p:spPr>
          <a:xfrm rot="18900000">
            <a:off x="2634840" y="2769840"/>
            <a:ext cx="2390760" cy="157320"/>
          </a:xfrm>
          <a:prstGeom prst="rightArrow">
            <a:avLst>
              <a:gd name="adj1" fmla="val 50000"/>
              <a:gd name="adj2" fmla="val 37921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右箭头 6152"/>
          <p:cNvSpPr/>
          <p:nvPr/>
        </p:nvSpPr>
        <p:spPr>
          <a:xfrm rot="2119800">
            <a:off x="2532240" y="4974840"/>
            <a:ext cx="2319120" cy="101520"/>
          </a:xfrm>
          <a:prstGeom prst="rightArrow">
            <a:avLst>
              <a:gd name="adj1" fmla="val 50000"/>
              <a:gd name="adj2" fmla="val 57004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右箭头 6153"/>
          <p:cNvSpPr/>
          <p:nvPr/>
        </p:nvSpPr>
        <p:spPr>
          <a:xfrm rot="21598200">
            <a:off x="3600360" y="4021200"/>
            <a:ext cx="3961080" cy="141120"/>
          </a:xfrm>
          <a:prstGeom prst="rightArrow">
            <a:avLst>
              <a:gd name="adj1" fmla="val 50000"/>
              <a:gd name="adj2" fmla="val 7004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右箭头 6154"/>
          <p:cNvSpPr/>
          <p:nvPr/>
        </p:nvSpPr>
        <p:spPr>
          <a:xfrm rot="1747200">
            <a:off x="5834160" y="2365200"/>
            <a:ext cx="2663640" cy="135000"/>
          </a:xfrm>
          <a:prstGeom prst="rightArrow">
            <a:avLst>
              <a:gd name="adj1" fmla="val 50000"/>
              <a:gd name="adj2" fmla="val 49235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右箭头 6155"/>
          <p:cNvSpPr/>
          <p:nvPr/>
        </p:nvSpPr>
        <p:spPr>
          <a:xfrm rot="19887600">
            <a:off x="5940360" y="5219280"/>
            <a:ext cx="2592360" cy="142920"/>
          </a:xfrm>
          <a:prstGeom prst="rightArrow">
            <a:avLst>
              <a:gd name="adj1" fmla="val 50000"/>
              <a:gd name="adj2" fmla="val 45262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6156"/>
          <p:cNvSpPr/>
          <p:nvPr/>
        </p:nvSpPr>
        <p:spPr>
          <a:xfrm rot="18201000">
            <a:off x="1226880" y="1677240"/>
            <a:ext cx="3584520" cy="2556000"/>
          </a:xfrm>
          <a:custGeom>
            <a:avLst/>
            <a:gdLst/>
            <a:ahLst/>
            <a:rect l="l" t="t" r="r" b="b"/>
            <a:pathLst>
              <a:path fill="none" w="21246" h="21589">
                <a:moveTo>
                  <a:pt x="685" y="0"/>
                </a:moveTo>
                <a:cubicBezTo>
                  <a:pt x="10978" y="322"/>
                  <a:pt x="19454" y="7841"/>
                  <a:pt x="21248" y="17684"/>
                </a:cubicBezTo>
              </a:path>
              <a:path stroke="0" w="21246" h="21589">
                <a:moveTo>
                  <a:pt x="685" y="0"/>
                </a:moveTo>
                <a:cubicBezTo>
                  <a:pt x="10978" y="322"/>
                  <a:pt x="19454" y="7841"/>
                  <a:pt x="21248" y="17684"/>
                </a:cubicBezTo>
                <a:lnTo>
                  <a:pt x="0" y="21589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157"/>
          <p:cNvSpPr/>
          <p:nvPr/>
        </p:nvSpPr>
        <p:spPr>
          <a:xfrm rot="10800000">
            <a:off x="1093320" y="3216240"/>
            <a:ext cx="3459240" cy="2813040"/>
          </a:xfrm>
          <a:custGeom>
            <a:avLst/>
            <a:gdLst/>
            <a:ahLst/>
            <a:rect l="l" t="t" r="r" b="b"/>
            <a:pathLst>
              <a:path fill="none" w="19923" h="21600">
                <a:moveTo>
                  <a:pt x="0" y="3"/>
                </a:moveTo>
                <a:cubicBezTo>
                  <a:pt x="130" y="0"/>
                  <a:pt x="260" y="-1"/>
                  <a:pt x="390" y="-1"/>
                </a:cubicBezTo>
                <a:cubicBezTo>
                  <a:pt x="9019" y="-1"/>
                  <a:pt x="16467" y="5059"/>
                  <a:pt x="19926" y="12372"/>
                </a:cubicBezTo>
              </a:path>
              <a:path stroke="0" w="19923" h="21600">
                <a:moveTo>
                  <a:pt x="0" y="3"/>
                </a:moveTo>
                <a:cubicBezTo>
                  <a:pt x="130" y="0"/>
                  <a:pt x="260" y="-1"/>
                  <a:pt x="390" y="-1"/>
                </a:cubicBezTo>
                <a:cubicBezTo>
                  <a:pt x="9019" y="-1"/>
                  <a:pt x="16467" y="5059"/>
                  <a:pt x="19926" y="12372"/>
                </a:cubicBezTo>
                <a:lnTo>
                  <a:pt x="390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6158"/>
          <p:cNvSpPr/>
          <p:nvPr/>
        </p:nvSpPr>
        <p:spPr>
          <a:xfrm>
            <a:off x="1257480" y="35989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种判定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159"/>
          <p:cNvSpPr/>
          <p:nvPr/>
        </p:nvSpPr>
        <p:spPr>
          <a:xfrm rot="19506600">
            <a:off x="1092600" y="16855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三个角是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6160"/>
          <p:cNvSpPr/>
          <p:nvPr/>
        </p:nvSpPr>
        <p:spPr>
          <a:xfrm rot="1875600">
            <a:off x="1350000" y="55558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四条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6161"/>
          <p:cNvSpPr/>
          <p:nvPr/>
        </p:nvSpPr>
        <p:spPr>
          <a:xfrm rot="18871200">
            <a:off x="2335320" y="2322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个角是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6162"/>
          <p:cNvSpPr/>
          <p:nvPr/>
        </p:nvSpPr>
        <p:spPr>
          <a:xfrm rot="18887400">
            <a:off x="2820240" y="2755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或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6163"/>
          <p:cNvSpPr/>
          <p:nvPr/>
        </p:nvSpPr>
        <p:spPr>
          <a:xfrm rot="2179200">
            <a:off x="2510280" y="498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6164"/>
          <p:cNvSpPr/>
          <p:nvPr/>
        </p:nvSpPr>
        <p:spPr>
          <a:xfrm rot="2038800">
            <a:off x="2953440" y="47412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或对角线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6165"/>
          <p:cNvSpPr/>
          <p:nvPr/>
        </p:nvSpPr>
        <p:spPr>
          <a:xfrm rot="1845000">
            <a:off x="5766840" y="2360160"/>
            <a:ext cx="21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6166"/>
          <p:cNvSpPr/>
          <p:nvPr/>
        </p:nvSpPr>
        <p:spPr>
          <a:xfrm rot="1662600">
            <a:off x="6122160" y="1846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或对角线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6167"/>
          <p:cNvSpPr/>
          <p:nvPr/>
        </p:nvSpPr>
        <p:spPr>
          <a:xfrm rot="19817400">
            <a:off x="5727960" y="49384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个角是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6168"/>
          <p:cNvSpPr/>
          <p:nvPr/>
        </p:nvSpPr>
        <p:spPr>
          <a:xfrm rot="19807200">
            <a:off x="6175800" y="53035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或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6169"/>
          <p:cNvSpPr/>
          <p:nvPr/>
        </p:nvSpPr>
        <p:spPr>
          <a:xfrm>
            <a:off x="3529080" y="3591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个角是直角且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6170"/>
          <p:cNvSpPr/>
          <p:nvPr/>
        </p:nvSpPr>
        <p:spPr>
          <a:xfrm>
            <a:off x="795240" y="673200"/>
            <a:ext cx="74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、矩形、菱形、正方形的判定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3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3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16"/>
          <p:cNvSpPr/>
          <p:nvPr/>
        </p:nvSpPr>
        <p:spPr>
          <a:xfrm>
            <a:off x="186372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619200" y="1050840"/>
            <a:ext cx="7512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1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是正方形？正方形有哪些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2587"/>
          <p:cNvSpPr/>
          <p:nvPr/>
        </p:nvSpPr>
        <p:spPr>
          <a:xfrm>
            <a:off x="2844720" y="19875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2588"/>
          <p:cNvSpPr/>
          <p:nvPr/>
        </p:nvSpPr>
        <p:spPr>
          <a:xfrm>
            <a:off x="4933800" y="19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589"/>
          <p:cNvSpPr/>
          <p:nvPr/>
        </p:nvSpPr>
        <p:spPr>
          <a:xfrm>
            <a:off x="5007240" y="3486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590"/>
          <p:cNvSpPr/>
          <p:nvPr/>
        </p:nvSpPr>
        <p:spPr>
          <a:xfrm>
            <a:off x="2844720" y="345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49280" y="3978360"/>
            <a:ext cx="860436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：有一组邻边相等，并且有一个角是直角的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性质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个角都是直角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②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条边都相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线相等且互相垂直平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596"/>
          <p:cNvSpPr/>
          <p:nvPr/>
        </p:nvSpPr>
        <p:spPr>
          <a:xfrm>
            <a:off x="3276720" y="2131920"/>
            <a:ext cx="1655640" cy="16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6720" y="2131920"/>
            <a:ext cx="1655640" cy="1656000"/>
            <a:chOff x="3276720" y="2131920"/>
            <a:chExt cx="1655640" cy="1656000"/>
          </a:xfrm>
        </p:grpSpPr>
        <p:sp>
          <p:nvSpPr>
            <p:cNvPr id="88" name="直接连接符 22597"/>
            <p:cNvSpPr/>
            <p:nvPr/>
          </p:nvSpPr>
          <p:spPr>
            <a:xfrm>
              <a:off x="3276720" y="213192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3276720" y="213192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76360" y="2131920"/>
            <a:ext cx="1656000" cy="1656000"/>
            <a:chOff x="3276360" y="2131920"/>
            <a:chExt cx="1656000" cy="1656000"/>
          </a:xfrm>
        </p:grpSpPr>
        <p:sp>
          <p:nvSpPr>
            <p:cNvPr id="91" name="直接连接符 22598"/>
            <p:cNvSpPr/>
            <p:nvPr/>
          </p:nvSpPr>
          <p:spPr>
            <a:xfrm flipV="1">
              <a:off x="3276720" y="213192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 rot="10800000">
              <a:off x="3276360" y="213192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22599"/>
          <p:cNvSpPr/>
          <p:nvPr/>
        </p:nvSpPr>
        <p:spPr>
          <a:xfrm>
            <a:off x="3897000" y="2967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0"/>
          <p:cNvSpPr/>
          <p:nvPr/>
        </p:nvSpPr>
        <p:spPr>
          <a:xfrm>
            <a:off x="279720" y="38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8989"/>
                </a:solidFill>
                <a:latin typeface="Arial"/>
                <a:ea typeface="方正姚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31"/>
          <p:cNvSpPr/>
          <p:nvPr/>
        </p:nvSpPr>
        <p:spPr>
          <a:xfrm>
            <a:off x="369720" y="598320"/>
            <a:ext cx="1825920" cy="5526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568440" y="404640"/>
            <a:ext cx="717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判断是矩形、菱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平行四边形 120837"/>
          <p:cNvSpPr/>
          <p:nvPr/>
        </p:nvSpPr>
        <p:spPr>
          <a:xfrm>
            <a:off x="4051440" y="2890800"/>
            <a:ext cx="2288880" cy="1079640"/>
          </a:xfrm>
          <a:prstGeom prst="parallelogram">
            <a:avLst>
              <a:gd name="adj" fmla="val 46739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0838"/>
          <p:cNvSpPr/>
          <p:nvPr/>
        </p:nvSpPr>
        <p:spPr>
          <a:xfrm>
            <a:off x="6659640" y="1414440"/>
            <a:ext cx="1944720" cy="8636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菱形 120839"/>
          <p:cNvSpPr/>
          <p:nvPr/>
        </p:nvSpPr>
        <p:spPr>
          <a:xfrm>
            <a:off x="7093080" y="4511520"/>
            <a:ext cx="1726920" cy="1368720"/>
          </a:xfrm>
          <a:prstGeom prst="diamond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120861"/>
          <p:cNvSpPr/>
          <p:nvPr/>
        </p:nvSpPr>
        <p:spPr>
          <a:xfrm>
            <a:off x="84240" y="2871720"/>
            <a:ext cx="2052360" cy="100800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33680" y="1747800"/>
            <a:ext cx="360" cy="1008000"/>
            <a:chOff x="1633680" y="1747800"/>
            <a:chExt cx="360" cy="1008000"/>
          </a:xfrm>
        </p:grpSpPr>
        <p:sp>
          <p:nvSpPr>
            <p:cNvPr id="102" name="直接连接符 120877"/>
            <p:cNvSpPr/>
            <p:nvPr/>
          </p:nvSpPr>
          <p:spPr>
            <a:xfrm>
              <a:off x="1633680" y="174780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633680" y="174780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33680" y="1747800"/>
            <a:ext cx="4464000" cy="360"/>
            <a:chOff x="1633680" y="1747800"/>
            <a:chExt cx="4464000" cy="360"/>
          </a:xfrm>
        </p:grpSpPr>
        <p:sp>
          <p:nvSpPr>
            <p:cNvPr id="105" name="直接连接符 120878"/>
            <p:cNvSpPr/>
            <p:nvPr/>
          </p:nvSpPr>
          <p:spPr>
            <a:xfrm>
              <a:off x="1633680" y="1747800"/>
              <a:ext cx="446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633680" y="1747800"/>
              <a:ext cx="446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49520" y="4124160"/>
            <a:ext cx="360" cy="936720"/>
            <a:chOff x="1649520" y="4124160"/>
            <a:chExt cx="360" cy="936720"/>
          </a:xfrm>
        </p:grpSpPr>
        <p:sp>
          <p:nvSpPr>
            <p:cNvPr id="108" name="直接连接符 120879"/>
            <p:cNvSpPr/>
            <p:nvPr/>
          </p:nvSpPr>
          <p:spPr>
            <a:xfrm>
              <a:off x="1649520" y="412416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649520" y="4124160"/>
              <a:ext cx="36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49520" y="5060880"/>
            <a:ext cx="5256000" cy="360"/>
            <a:chOff x="1649520" y="5060880"/>
            <a:chExt cx="5256000" cy="360"/>
          </a:xfrm>
        </p:grpSpPr>
        <p:sp>
          <p:nvSpPr>
            <p:cNvPr id="111" name="直接连接符 120880"/>
            <p:cNvSpPr/>
            <p:nvPr/>
          </p:nvSpPr>
          <p:spPr>
            <a:xfrm>
              <a:off x="1649520" y="5060880"/>
              <a:ext cx="5256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649520" y="5060880"/>
              <a:ext cx="52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93920" y="3332160"/>
            <a:ext cx="1876320" cy="360"/>
            <a:chOff x="2293920" y="3332160"/>
            <a:chExt cx="1876320" cy="360"/>
          </a:xfrm>
        </p:grpSpPr>
        <p:sp>
          <p:nvSpPr>
            <p:cNvPr id="114" name="直接连接符 120881"/>
            <p:cNvSpPr/>
            <p:nvPr/>
          </p:nvSpPr>
          <p:spPr>
            <a:xfrm>
              <a:off x="2293920" y="3332160"/>
              <a:ext cx="18763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2293920" y="3332160"/>
              <a:ext cx="18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13520" y="2354040"/>
            <a:ext cx="1519200" cy="1098360"/>
            <a:chOff x="6113520" y="2354040"/>
            <a:chExt cx="1519200" cy="1098360"/>
          </a:xfrm>
        </p:grpSpPr>
        <p:sp>
          <p:nvSpPr>
            <p:cNvPr id="117" name="直接连接符 120882"/>
            <p:cNvSpPr/>
            <p:nvPr/>
          </p:nvSpPr>
          <p:spPr>
            <a:xfrm flipV="1">
              <a:off x="6113520" y="2354040"/>
              <a:ext cx="1519200" cy="1098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10800000">
              <a:off x="6113520" y="2354040"/>
              <a:ext cx="1519200" cy="10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13520" y="3476520"/>
            <a:ext cx="1303200" cy="1236600"/>
            <a:chOff x="6113520" y="3476520"/>
            <a:chExt cx="1303200" cy="1236600"/>
          </a:xfrm>
        </p:grpSpPr>
        <p:sp>
          <p:nvSpPr>
            <p:cNvPr id="120" name="直接连接符 120883"/>
            <p:cNvSpPr/>
            <p:nvPr/>
          </p:nvSpPr>
          <p:spPr>
            <a:xfrm>
              <a:off x="6113520" y="3476520"/>
              <a:ext cx="1303200" cy="12366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113520" y="3476520"/>
              <a:ext cx="130320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120893"/>
          <p:cNvSpPr/>
          <p:nvPr/>
        </p:nvSpPr>
        <p:spPr>
          <a:xfrm>
            <a:off x="3300840" y="1243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三个角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20894"/>
          <p:cNvSpPr/>
          <p:nvPr/>
        </p:nvSpPr>
        <p:spPr>
          <a:xfrm>
            <a:off x="3377520" y="4600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四条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20895"/>
          <p:cNvSpPr/>
          <p:nvPr/>
        </p:nvSpPr>
        <p:spPr>
          <a:xfrm>
            <a:off x="3019680" y="2843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20896"/>
          <p:cNvSpPr/>
          <p:nvPr/>
        </p:nvSpPr>
        <p:spPr>
          <a:xfrm>
            <a:off x="2265840" y="3359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四个判定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20897"/>
          <p:cNvSpPr/>
          <p:nvPr/>
        </p:nvSpPr>
        <p:spPr>
          <a:xfrm rot="19809600">
            <a:off x="6469560" y="24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0898"/>
          <p:cNvSpPr/>
          <p:nvPr/>
        </p:nvSpPr>
        <p:spPr>
          <a:xfrm rot="19524000">
            <a:off x="6625440" y="2660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角线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20899"/>
          <p:cNvSpPr/>
          <p:nvPr/>
        </p:nvSpPr>
        <p:spPr>
          <a:xfrm rot="2908800">
            <a:off x="6336720" y="4093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20900"/>
          <p:cNvSpPr/>
          <p:nvPr/>
        </p:nvSpPr>
        <p:spPr>
          <a:xfrm rot="2455200">
            <a:off x="6441480" y="3862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角线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直接箭头连接符 1"/>
          <p:cNvCxnSpPr>
            <a:stCxn id="105" idx="0"/>
          </p:cNvCxnSpPr>
          <p:nvPr/>
        </p:nvCxnSpPr>
        <p:spPr>
          <a:xfrm>
            <a:off x="6097320" y="1747800"/>
            <a:ext cx="851400" cy="892800"/>
          </a:xfrm>
          <a:prstGeom prst="straightConnector1">
            <a:avLst/>
          </a:prstGeom>
          <a:ln w="9360">
            <a:solidFill>
              <a:srgbClr val="fafaf1"/>
            </a:solidFill>
            <a:round/>
            <a:tailEnd len="med" type="arrow" w="med"/>
          </a:ln>
        </p:spPr>
      </p:cxnSp>
      <p:sp>
        <p:nvSpPr>
          <p:cNvPr id="131" name="Text Box 3"/>
          <p:cNvSpPr/>
          <p:nvPr/>
        </p:nvSpPr>
        <p:spPr>
          <a:xfrm>
            <a:off x="695160" y="5483160"/>
            <a:ext cx="7172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思考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判定一个四边形是正方形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6147"/>
          <p:cNvGrpSpPr/>
          <p:nvPr/>
        </p:nvGrpSpPr>
        <p:grpSpPr>
          <a:xfrm>
            <a:off x="325440" y="498600"/>
            <a:ext cx="2973240" cy="570600"/>
            <a:chOff x="325440" y="498600"/>
            <a:chExt cx="2973240" cy="570600"/>
          </a:xfrm>
        </p:grpSpPr>
        <p:sp>
          <p:nvSpPr>
            <p:cNvPr id="134" name="矩形 7"/>
            <p:cNvSpPr/>
            <p:nvPr/>
          </p:nvSpPr>
          <p:spPr>
            <a:xfrm>
              <a:off x="885240" y="551880"/>
              <a:ext cx="2413440" cy="5011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6"/>
            <p:cNvSpPr/>
            <p:nvPr/>
          </p:nvSpPr>
          <p:spPr>
            <a:xfrm>
              <a:off x="325440" y="5493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7"/>
            <p:cNvSpPr/>
            <p:nvPr/>
          </p:nvSpPr>
          <p:spPr>
            <a:xfrm>
              <a:off x="687240" y="49860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6151"/>
            <p:cNvSpPr/>
            <p:nvPr/>
          </p:nvSpPr>
          <p:spPr>
            <a:xfrm>
              <a:off x="1310040" y="5486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正方形的判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6152"/>
            <p:cNvSpPr/>
            <p:nvPr/>
          </p:nvSpPr>
          <p:spPr>
            <a:xfrm>
              <a:off x="325440" y="548640"/>
              <a:ext cx="553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文本框 6359"/>
          <p:cNvSpPr/>
          <p:nvPr/>
        </p:nvSpPr>
        <p:spPr>
          <a:xfrm>
            <a:off x="324000" y="1241280"/>
            <a:ext cx="84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1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准备一张矩形的纸片，按照下图折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然后展开，折叠部分得到一个正方形，可量一量验证验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362"/>
          <p:cNvSpPr/>
          <p:nvPr/>
        </p:nvSpPr>
        <p:spPr>
          <a:xfrm>
            <a:off x="1979640" y="2495520"/>
            <a:ext cx="1800360" cy="124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57480" y="2492280"/>
            <a:ext cx="3240" cy="1241640"/>
            <a:chOff x="3057480" y="2492280"/>
            <a:chExt cx="3240" cy="1241640"/>
          </a:xfrm>
        </p:grpSpPr>
        <p:sp>
          <p:nvSpPr>
            <p:cNvPr id="142" name="直接连接符 6363"/>
            <p:cNvSpPr/>
            <p:nvPr/>
          </p:nvSpPr>
          <p:spPr>
            <a:xfrm>
              <a:off x="3057480" y="2492280"/>
              <a:ext cx="3240" cy="1241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3057480" y="2492280"/>
              <a:ext cx="3240" cy="124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006640" y="2492280"/>
            <a:ext cx="1052640" cy="1227240"/>
            <a:chOff x="2006640" y="2492280"/>
            <a:chExt cx="1052640" cy="1227240"/>
          </a:xfrm>
        </p:grpSpPr>
        <p:sp>
          <p:nvSpPr>
            <p:cNvPr id="145" name="直接连接符 6364"/>
            <p:cNvSpPr/>
            <p:nvPr/>
          </p:nvSpPr>
          <p:spPr>
            <a:xfrm>
              <a:off x="2006640" y="2492280"/>
              <a:ext cx="1052640" cy="1227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2006640" y="2492280"/>
              <a:ext cx="1052640" cy="122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右箭头 6365"/>
          <p:cNvSpPr/>
          <p:nvPr/>
        </p:nvSpPr>
        <p:spPr>
          <a:xfrm>
            <a:off x="4284720" y="2725560"/>
            <a:ext cx="792000" cy="648000"/>
          </a:xfrm>
          <a:prstGeom prst="rightArrow">
            <a:avLst>
              <a:gd name="adj1" fmla="val 37259"/>
              <a:gd name="adj2" fmla="val 39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366"/>
          <p:cNvSpPr/>
          <p:nvPr/>
        </p:nvSpPr>
        <p:spPr>
          <a:xfrm>
            <a:off x="5508720" y="2495520"/>
            <a:ext cx="1241280" cy="124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6370"/>
          <p:cNvSpPr/>
          <p:nvPr/>
        </p:nvSpPr>
        <p:spPr>
          <a:xfrm>
            <a:off x="5763600" y="2928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484640" y="3994200"/>
            <a:ext cx="45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猜想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满足怎样条件的矩形是正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1476360" y="4929120"/>
            <a:ext cx="1800360" cy="1008000"/>
          </a:xfrm>
          <a:prstGeom prst="rect">
            <a:avLst/>
          </a:prstGeom>
          <a:solidFill>
            <a:srgbClr val="808000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黑体"/>
                <a:ea typeface="黑体"/>
              </a:rPr>
              <a:t>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右箭头 4"/>
          <p:cNvSpPr/>
          <p:nvPr/>
        </p:nvSpPr>
        <p:spPr>
          <a:xfrm>
            <a:off x="3594240" y="5083200"/>
            <a:ext cx="2736720" cy="507960"/>
          </a:xfrm>
          <a:prstGeom prst="rightArrow">
            <a:avLst>
              <a:gd name="adj1" fmla="val 49722"/>
              <a:gd name="adj2" fmla="val 40432"/>
            </a:avLst>
          </a:prstGeom>
          <a:noFill/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6443640" y="4929120"/>
            <a:ext cx="1079640" cy="1081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136040" y="4691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组邻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092840" y="5591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8231"/>
          <p:cNvSpPr/>
          <p:nvPr/>
        </p:nvSpPr>
        <p:spPr>
          <a:xfrm>
            <a:off x="237960" y="1758960"/>
            <a:ext cx="89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矩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它的两条对角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31"/>
          <p:cNvSpPr/>
          <p:nvPr/>
        </p:nvSpPr>
        <p:spPr>
          <a:xfrm>
            <a:off x="331920" y="706320"/>
            <a:ext cx="1425600" cy="5130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证一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2587"/>
          <p:cNvSpPr/>
          <p:nvPr/>
        </p:nvSpPr>
        <p:spPr>
          <a:xfrm>
            <a:off x="6073560" y="37101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2588"/>
          <p:cNvSpPr/>
          <p:nvPr/>
        </p:nvSpPr>
        <p:spPr>
          <a:xfrm>
            <a:off x="8162640" y="3638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2589"/>
          <p:cNvSpPr/>
          <p:nvPr/>
        </p:nvSpPr>
        <p:spPr>
          <a:xfrm>
            <a:off x="8236080" y="520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2590"/>
          <p:cNvSpPr/>
          <p:nvPr/>
        </p:nvSpPr>
        <p:spPr>
          <a:xfrm>
            <a:off x="6073560" y="517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2596"/>
          <p:cNvSpPr/>
          <p:nvPr/>
        </p:nvSpPr>
        <p:spPr>
          <a:xfrm>
            <a:off x="6505560" y="3854520"/>
            <a:ext cx="1655640" cy="165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512040" y="3854520"/>
            <a:ext cx="1655640" cy="1655640"/>
            <a:chOff x="6512040" y="3854520"/>
            <a:chExt cx="1655640" cy="1655640"/>
          </a:xfrm>
        </p:grpSpPr>
        <p:sp>
          <p:nvSpPr>
            <p:cNvPr id="164" name="直接连接符 22597"/>
            <p:cNvSpPr/>
            <p:nvPr/>
          </p:nvSpPr>
          <p:spPr>
            <a:xfrm>
              <a:off x="6512040" y="385452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6512040" y="385452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511680" y="3854160"/>
            <a:ext cx="1656000" cy="1655640"/>
            <a:chOff x="6511680" y="3854160"/>
            <a:chExt cx="1656000" cy="1655640"/>
          </a:xfrm>
        </p:grpSpPr>
        <p:sp>
          <p:nvSpPr>
            <p:cNvPr id="167" name="直接连接符 22598"/>
            <p:cNvSpPr/>
            <p:nvPr/>
          </p:nvSpPr>
          <p:spPr>
            <a:xfrm flipV="1">
              <a:off x="6512040" y="385416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6511680" y="385416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22599"/>
          <p:cNvSpPr/>
          <p:nvPr/>
        </p:nvSpPr>
        <p:spPr>
          <a:xfrm>
            <a:off x="6838920" y="44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633240" y="1317600"/>
            <a:ext cx="58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垂直的矩形是正方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11620"/>
          <p:cNvSpPr/>
          <p:nvPr/>
        </p:nvSpPr>
        <p:spPr>
          <a:xfrm>
            <a:off x="241200" y="577800"/>
            <a:ext cx="8734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可以活动的菱形框架的一个角变为直角，观察这时菱形框架的形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量量看是不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111621"/>
          <p:cNvGrpSpPr/>
          <p:nvPr/>
        </p:nvGrpSpPr>
        <p:grpSpPr>
          <a:xfrm>
            <a:off x="900000" y="1817640"/>
            <a:ext cx="2735280" cy="1800000"/>
            <a:chOff x="900000" y="1817640"/>
            <a:chExt cx="2735280" cy="1800000"/>
          </a:xfrm>
        </p:grpSpPr>
        <p:grpSp>
          <p:nvGrpSpPr>
            <p:cNvPr id="173" name="组合 111622"/>
            <p:cNvGrpSpPr/>
            <p:nvPr/>
          </p:nvGrpSpPr>
          <p:grpSpPr>
            <a:xfrm>
              <a:off x="900000" y="1817640"/>
              <a:ext cx="2735280" cy="1800000"/>
              <a:chOff x="900000" y="1817640"/>
              <a:chExt cx="2735280" cy="1800000"/>
            </a:xfrm>
          </p:grpSpPr>
          <p:sp>
            <p:nvSpPr>
              <p:cNvPr id="174" name="矩形 111623"/>
              <p:cNvSpPr/>
              <p:nvPr/>
            </p:nvSpPr>
            <p:spPr>
              <a:xfrm>
                <a:off x="1042920" y="2206440"/>
                <a:ext cx="25923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矩形 111624"/>
              <p:cNvSpPr/>
              <p:nvPr/>
            </p:nvSpPr>
            <p:spPr>
              <a:xfrm>
                <a:off x="900000" y="3141360"/>
                <a:ext cx="2592720" cy="1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平行四边形 111625"/>
              <p:cNvSpPr/>
              <p:nvPr/>
            </p:nvSpPr>
            <p:spPr>
              <a:xfrm>
                <a:off x="2497320" y="1817640"/>
                <a:ext cx="93492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平行四边形 111626"/>
              <p:cNvSpPr/>
              <p:nvPr/>
            </p:nvSpPr>
            <p:spPr>
              <a:xfrm>
                <a:off x="1201680" y="1817640"/>
                <a:ext cx="93528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111627"/>
              <p:cNvSpPr/>
              <p:nvPr/>
            </p:nvSpPr>
            <p:spPr>
              <a:xfrm>
                <a:off x="1830600" y="223812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111628"/>
              <p:cNvSpPr/>
              <p:nvPr/>
            </p:nvSpPr>
            <p:spPr>
              <a:xfrm>
                <a:off x="3127320" y="22381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椭圆 111629"/>
              <p:cNvSpPr/>
              <p:nvPr/>
            </p:nvSpPr>
            <p:spPr>
              <a:xfrm>
                <a:off x="2700360" y="31795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111630"/>
              <p:cNvSpPr/>
              <p:nvPr/>
            </p:nvSpPr>
            <p:spPr>
              <a:xfrm>
                <a:off x="1403280" y="31748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任意多边形 111631"/>
            <p:cNvSpPr/>
            <p:nvPr/>
          </p:nvSpPr>
          <p:spPr>
            <a:xfrm flipV="1">
              <a:off x="1836720" y="2336040"/>
              <a:ext cx="142920" cy="142920"/>
            </a:xfrm>
            <a:custGeom>
              <a:avLst/>
              <a:gdLst/>
              <a:ahLst/>
              <a:rect l="l" t="t" r="r" b="b"/>
              <a:pathLst>
                <a:path fill="none" w="43200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43200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38365" y="0"/>
                    <a:pt x="43200" y="9671"/>
                    <a:pt x="43200" y="21600"/>
                  </a:cubicBezTo>
                  <a:cubicBezTo>
                    <a:pt x="43200" y="23991"/>
                    <a:pt x="43006" y="26290"/>
                    <a:pt x="4264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右箭头 111632"/>
          <p:cNvSpPr/>
          <p:nvPr/>
        </p:nvSpPr>
        <p:spPr>
          <a:xfrm>
            <a:off x="4211640" y="2394000"/>
            <a:ext cx="792000" cy="576360"/>
          </a:xfrm>
          <a:prstGeom prst="rightArrow">
            <a:avLst>
              <a:gd name="adj1" fmla="val 37259"/>
              <a:gd name="adj2" fmla="val 439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111634"/>
          <p:cNvGrpSpPr/>
          <p:nvPr/>
        </p:nvGrpSpPr>
        <p:grpSpPr>
          <a:xfrm>
            <a:off x="5580000" y="1746360"/>
            <a:ext cx="2608200" cy="1899720"/>
            <a:chOff x="5580000" y="1746360"/>
            <a:chExt cx="2608200" cy="1899720"/>
          </a:xfrm>
        </p:grpSpPr>
        <p:sp>
          <p:nvSpPr>
            <p:cNvPr id="185" name="矩形 111635"/>
            <p:cNvSpPr/>
            <p:nvPr/>
          </p:nvSpPr>
          <p:spPr>
            <a:xfrm>
              <a:off x="5595840" y="3241440"/>
              <a:ext cx="2592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11636"/>
            <p:cNvSpPr/>
            <p:nvPr/>
          </p:nvSpPr>
          <p:spPr>
            <a:xfrm>
              <a:off x="7395840" y="327960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111637"/>
            <p:cNvSpPr/>
            <p:nvPr/>
          </p:nvSpPr>
          <p:spPr>
            <a:xfrm>
              <a:off x="6099120" y="327492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11638"/>
            <p:cNvSpPr/>
            <p:nvPr/>
          </p:nvSpPr>
          <p:spPr>
            <a:xfrm>
              <a:off x="5580000" y="2062080"/>
              <a:ext cx="2592360" cy="1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11639"/>
            <p:cNvSpPr/>
            <p:nvPr/>
          </p:nvSpPr>
          <p:spPr>
            <a:xfrm>
              <a:off x="7380000" y="209844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11640"/>
            <p:cNvSpPr/>
            <p:nvPr/>
          </p:nvSpPr>
          <p:spPr>
            <a:xfrm>
              <a:off x="6083280" y="209376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11641"/>
            <p:cNvSpPr/>
            <p:nvPr/>
          </p:nvSpPr>
          <p:spPr>
            <a:xfrm>
              <a:off x="6054480" y="1774800"/>
              <a:ext cx="144360" cy="187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11642"/>
            <p:cNvSpPr/>
            <p:nvPr/>
          </p:nvSpPr>
          <p:spPr>
            <a:xfrm>
              <a:off x="7351560" y="1746360"/>
              <a:ext cx="144360" cy="18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111646"/>
          <p:cNvSpPr/>
          <p:nvPr/>
        </p:nvSpPr>
        <p:spPr>
          <a:xfrm>
            <a:off x="6199200" y="2206800"/>
            <a:ext cx="144360" cy="14436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11649"/>
          <p:cNvSpPr/>
          <p:nvPr/>
        </p:nvSpPr>
        <p:spPr>
          <a:xfrm>
            <a:off x="6372000" y="249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菱形 10"/>
          <p:cNvSpPr/>
          <p:nvPr/>
        </p:nvSpPr>
        <p:spPr>
          <a:xfrm>
            <a:off x="1547640" y="4797360"/>
            <a:ext cx="1873440" cy="1224000"/>
          </a:xfrm>
          <a:prstGeom prst="diamond">
            <a:avLst/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452240" y="3933720"/>
            <a:ext cx="472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猜想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满足怎样条件的菱形是正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右箭头 16"/>
          <p:cNvSpPr/>
          <p:nvPr/>
        </p:nvSpPr>
        <p:spPr>
          <a:xfrm>
            <a:off x="3625920" y="5264280"/>
            <a:ext cx="2738520" cy="439560"/>
          </a:xfrm>
          <a:prstGeom prst="rightArrow">
            <a:avLst>
              <a:gd name="adj1" fmla="val 50000"/>
              <a:gd name="adj2" fmla="val 42515"/>
            </a:avLst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7"/>
          <p:cNvSpPr/>
          <p:nvPr/>
        </p:nvSpPr>
        <p:spPr>
          <a:xfrm>
            <a:off x="6443640" y="5013360"/>
            <a:ext cx="1079640" cy="107964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Calibri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4264560" y="4898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角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423680" y="5703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角线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8231"/>
          <p:cNvSpPr/>
          <p:nvPr/>
        </p:nvSpPr>
        <p:spPr>
          <a:xfrm>
            <a:off x="230040" y="1677960"/>
            <a:ext cx="8964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菱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它的两条对角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腰直角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31"/>
          <p:cNvSpPr/>
          <p:nvPr/>
        </p:nvSpPr>
        <p:spPr>
          <a:xfrm>
            <a:off x="331920" y="627120"/>
            <a:ext cx="1425600" cy="5126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证一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2587"/>
          <p:cNvSpPr/>
          <p:nvPr/>
        </p:nvSpPr>
        <p:spPr>
          <a:xfrm>
            <a:off x="6073560" y="27050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2588"/>
          <p:cNvSpPr/>
          <p:nvPr/>
        </p:nvSpPr>
        <p:spPr>
          <a:xfrm>
            <a:off x="8162640" y="2633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2589"/>
          <p:cNvSpPr/>
          <p:nvPr/>
        </p:nvSpPr>
        <p:spPr>
          <a:xfrm>
            <a:off x="8236080" y="420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2590"/>
          <p:cNvSpPr/>
          <p:nvPr/>
        </p:nvSpPr>
        <p:spPr>
          <a:xfrm>
            <a:off x="6073560" y="4173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2596"/>
          <p:cNvSpPr/>
          <p:nvPr/>
        </p:nvSpPr>
        <p:spPr>
          <a:xfrm>
            <a:off x="6505560" y="2849400"/>
            <a:ext cx="1655640" cy="16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512040" y="2849400"/>
            <a:ext cx="1655640" cy="1656000"/>
            <a:chOff x="6512040" y="2849400"/>
            <a:chExt cx="1655640" cy="1656000"/>
          </a:xfrm>
        </p:grpSpPr>
        <p:sp>
          <p:nvSpPr>
            <p:cNvPr id="209" name="直接连接符 22597"/>
            <p:cNvSpPr/>
            <p:nvPr/>
          </p:nvSpPr>
          <p:spPr>
            <a:xfrm>
              <a:off x="6512040" y="284940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6512040" y="284940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11680" y="2849400"/>
            <a:ext cx="1656000" cy="1656000"/>
            <a:chOff x="6511680" y="2849400"/>
            <a:chExt cx="1656000" cy="1656000"/>
          </a:xfrm>
        </p:grpSpPr>
        <p:sp>
          <p:nvSpPr>
            <p:cNvPr id="212" name="直接连接符 22598"/>
            <p:cNvSpPr/>
            <p:nvPr/>
          </p:nvSpPr>
          <p:spPr>
            <a:xfrm flipV="1">
              <a:off x="6512040" y="284940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10800000">
              <a:off x="6511680" y="284940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22599"/>
          <p:cNvSpPr/>
          <p:nvPr/>
        </p:nvSpPr>
        <p:spPr>
          <a:xfrm>
            <a:off x="6838920" y="346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33240" y="1246320"/>
            <a:ext cx="58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角线相等的菱形是正方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5"/>
          <p:cNvSpPr/>
          <p:nvPr/>
        </p:nvSpPr>
        <p:spPr>
          <a:xfrm>
            <a:off x="943560" y="1222200"/>
            <a:ext cx="32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方形判定的几条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菱形 8"/>
          <p:cNvSpPr/>
          <p:nvPr/>
        </p:nvSpPr>
        <p:spPr>
          <a:xfrm>
            <a:off x="1327320" y="1895400"/>
            <a:ext cx="1590480" cy="863640"/>
          </a:xfrm>
          <a:prstGeom prst="diamond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9"/>
          <p:cNvSpPr/>
          <p:nvPr/>
        </p:nvSpPr>
        <p:spPr>
          <a:xfrm>
            <a:off x="3762360" y="1824120"/>
            <a:ext cx="1625760" cy="10065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6593040" y="1941480"/>
            <a:ext cx="1266840" cy="111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菱形 12"/>
          <p:cNvSpPr/>
          <p:nvPr/>
        </p:nvSpPr>
        <p:spPr>
          <a:xfrm>
            <a:off x="3781440" y="3489480"/>
            <a:ext cx="1646280" cy="1066680"/>
          </a:xfrm>
          <a:prstGeom prst="diamond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"/>
          <p:cNvSpPr/>
          <p:nvPr/>
        </p:nvSpPr>
        <p:spPr>
          <a:xfrm>
            <a:off x="1617840" y="3625920"/>
            <a:ext cx="1223640" cy="792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4"/>
          <p:cNvSpPr/>
          <p:nvPr/>
        </p:nvSpPr>
        <p:spPr>
          <a:xfrm>
            <a:off x="6534000" y="3625920"/>
            <a:ext cx="1325880" cy="1085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右箭头 11"/>
          <p:cNvSpPr/>
          <p:nvPr/>
        </p:nvSpPr>
        <p:spPr>
          <a:xfrm>
            <a:off x="5608800" y="2262240"/>
            <a:ext cx="720720" cy="360360"/>
          </a:xfrm>
          <a:prstGeom prst="rightArrow">
            <a:avLst>
              <a:gd name="adj1" fmla="val 50000"/>
              <a:gd name="adj2" fmla="val 4274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右箭头 16"/>
          <p:cNvSpPr/>
          <p:nvPr/>
        </p:nvSpPr>
        <p:spPr>
          <a:xfrm>
            <a:off x="5724360" y="3951360"/>
            <a:ext cx="720720" cy="433440"/>
          </a:xfrm>
          <a:prstGeom prst="rightArrow">
            <a:avLst>
              <a:gd name="adj1" fmla="val 50000"/>
              <a:gd name="adj2" fmla="val 3553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3187440" y="2100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3276360" y="3666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1683720" y="2712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先判定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1892520" y="4476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先判定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3"/>
          <p:cNvSpPr/>
          <p:nvPr/>
        </p:nvSpPr>
        <p:spPr>
          <a:xfrm>
            <a:off x="3433680" y="2830680"/>
            <a:ext cx="30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条件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选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4017960" y="454968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菱形条件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选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4372560" y="190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直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0"/>
          <p:cNvSpPr/>
          <p:nvPr/>
        </p:nvSpPr>
        <p:spPr>
          <a:xfrm>
            <a:off x="4491720" y="362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邻边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圆角矩形 31"/>
          <p:cNvSpPr/>
          <p:nvPr/>
        </p:nvSpPr>
        <p:spPr>
          <a:xfrm>
            <a:off x="503280" y="612720"/>
            <a:ext cx="1539720" cy="511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9"/>
          <p:cNvSpPr/>
          <p:nvPr/>
        </p:nvSpPr>
        <p:spPr>
          <a:xfrm>
            <a:off x="4026600" y="2309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1"/>
          <p:cNvSpPr/>
          <p:nvPr/>
        </p:nvSpPr>
        <p:spPr>
          <a:xfrm>
            <a:off x="4150440" y="401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350528"/>
          <p:cNvGrpSpPr/>
          <p:nvPr/>
        </p:nvGrpSpPr>
        <p:grpSpPr>
          <a:xfrm>
            <a:off x="539640" y="4933800"/>
            <a:ext cx="8222760" cy="1371600"/>
            <a:chOff x="539640" y="4933800"/>
            <a:chExt cx="8222760" cy="1371600"/>
          </a:xfrm>
        </p:grpSpPr>
        <p:grpSp>
          <p:nvGrpSpPr>
            <p:cNvPr id="237" name="组合 350521"/>
            <p:cNvGrpSpPr/>
            <p:nvPr/>
          </p:nvGrpSpPr>
          <p:grpSpPr>
            <a:xfrm>
              <a:off x="539640" y="5238720"/>
              <a:ext cx="2349720" cy="990360"/>
              <a:chOff x="539640" y="5238720"/>
              <a:chExt cx="2349720" cy="990360"/>
            </a:xfrm>
          </p:grpSpPr>
          <p:sp>
            <p:nvSpPr>
              <p:cNvPr id="238" name="平行四边形 350508"/>
              <p:cNvSpPr/>
              <p:nvPr/>
            </p:nvSpPr>
            <p:spPr>
              <a:xfrm>
                <a:off x="539640" y="5238720"/>
                <a:ext cx="2349720" cy="990360"/>
              </a:xfrm>
              <a:prstGeom prst="parallelogram">
                <a:avLst>
                  <a:gd name="adj" fmla="val 59315"/>
                </a:avLst>
              </a:prstGeom>
              <a:solidFill>
                <a:srgbClr val="ffffd9"/>
              </a:solid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文本框 350509"/>
              <p:cNvSpPr/>
              <p:nvPr/>
            </p:nvSpPr>
            <p:spPr>
              <a:xfrm>
                <a:off x="905040" y="5324400"/>
                <a:ext cx="152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平行四边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组合 350522"/>
            <p:cNvGrpSpPr/>
            <p:nvPr/>
          </p:nvGrpSpPr>
          <p:grpSpPr>
            <a:xfrm>
              <a:off x="7436880" y="4933800"/>
              <a:ext cx="1325520" cy="1371600"/>
              <a:chOff x="7436880" y="4933800"/>
              <a:chExt cx="1325520" cy="1371600"/>
            </a:xfrm>
          </p:grpSpPr>
          <p:sp>
            <p:nvSpPr>
              <p:cNvPr id="241" name="矩形 350511"/>
              <p:cNvSpPr/>
              <p:nvPr/>
            </p:nvSpPr>
            <p:spPr>
              <a:xfrm>
                <a:off x="7441200" y="4933800"/>
                <a:ext cx="1321200" cy="1371600"/>
              </a:xfrm>
              <a:prstGeom prst="rect">
                <a:avLst/>
              </a:prstGeom>
              <a:solidFill>
                <a:srgbClr val="ffffd9"/>
              </a:solid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文本框 350512"/>
              <p:cNvSpPr/>
              <p:nvPr/>
            </p:nvSpPr>
            <p:spPr>
              <a:xfrm>
                <a:off x="7436880" y="5314680"/>
                <a:ext cx="131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正方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直接连接符 350514"/>
            <p:cNvSpPr/>
            <p:nvPr/>
          </p:nvSpPr>
          <p:spPr>
            <a:xfrm>
              <a:off x="2962440" y="5695920"/>
              <a:ext cx="4185000" cy="1440"/>
            </a:xfrm>
            <a:prstGeom prst="line">
              <a:avLst/>
            </a:prstGeom>
            <a:ln w="255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50518"/>
          <p:cNvGrpSpPr/>
          <p:nvPr/>
        </p:nvGrpSpPr>
        <p:grpSpPr>
          <a:xfrm>
            <a:off x="4207680" y="5229360"/>
            <a:ext cx="1460880" cy="996480"/>
            <a:chOff x="4207680" y="5229360"/>
            <a:chExt cx="1460880" cy="996480"/>
          </a:xfrm>
        </p:grpSpPr>
        <p:sp>
          <p:nvSpPr>
            <p:cNvPr id="245" name="矩形 350516"/>
            <p:cNvSpPr/>
            <p:nvPr/>
          </p:nvSpPr>
          <p:spPr>
            <a:xfrm>
              <a:off x="4207680" y="5229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一组邻边相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350517"/>
            <p:cNvSpPr/>
            <p:nvPr/>
          </p:nvSpPr>
          <p:spPr>
            <a:xfrm>
              <a:off x="4674960" y="5705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一内角是直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6T06:11:40Z</dcterms:modified>
  <cp:revision>6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